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E08-7E6A-4F38-BF4E-E6B435D38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18A-5943-48F5-8E36-0F723BBC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DD8-2280-430E-B614-B0FDBE31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EEC-31D0-4DB3-A344-BB77577A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364-3D63-4670-BC33-B4B44C33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BEA9-1654-4E98-B7B6-48E71EE6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A05C-A2B3-4C5E-B8AB-6A7585C2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3499-390D-41EF-B30C-33E68362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7AD8-49F8-4407-AF83-D8D920B1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E167-81AA-4EFF-9558-87B3BCC3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06B7-C979-44EA-AF13-1C8FFBE5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385D-F48B-43A6-8BCD-350C8BE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A8A-B521-4078-95F2-A37877D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DABA-A1A0-423B-8939-C5E6C463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B33F-3A92-492D-9FE2-5BC9E899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6D96-FF9A-49E4-B6F1-06E3FC90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BFA2-C9FE-41A1-AA93-36BAB591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6270-F60D-4E82-B7E7-FE5CB4DC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1CD8-A841-4C66-8824-646FAF85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B99D-FD30-4F72-8346-6261C91F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91EA-1712-4E6E-84FE-0F97D0C3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F3628-6AC1-4176-A234-F37BFE25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C468-7874-4442-AF72-C75E16CE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EE2-2420-4CE3-8946-C0A7122A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679E-28DD-4169-B615-81121BD2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52D9-36BD-4FA3-8274-F0E2814F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1C9A-2C87-41B9-B019-95F10106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3D26-EA05-4335-8B69-A8F6B10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EA56-8C73-43D3-8EC1-91025B9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D0CD-DA4D-4B72-8AD0-14C58E2D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1BDE-0B5B-4564-A624-CFB32196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A30E7-E7D8-493B-AEFD-A54F78DF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F848-2413-4D9A-B013-149F4B57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DF13-8BEA-4ED0-88B7-35F2876F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68D-F9E4-4359-A89C-59B0C689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34E3-4E02-444E-9B55-89B5B498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2B033-B2E3-4C55-886C-A490F3C1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11C7A-12D3-4333-9AF6-207C7317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DF44-5D31-46F6-92B4-F50FD12E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5EE30-8575-4D6F-A2E1-D5F4E14B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48EB0-EEED-4F1A-877C-B36DBE23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5277-7B00-40D0-AACB-E20CA78B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8E4DC-B822-4729-A778-E1E2CB02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4EF8-7763-4A61-B395-67F94BC1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C7D09-4D02-4694-BB8F-866BA863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FE7-C5C1-4BDC-8F56-BFA6879C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0FB4-10ED-422B-B5DC-9C7A7EE0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85025-C80F-4CA7-9BF7-3F5BCD1D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07056-508A-4DFE-9DB0-44D1C510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0ED0E-14C0-4194-8196-717641A1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9F1A2-94EE-45DB-A23A-5F3B0FB0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A05CB-9E80-4465-A846-B78413B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0411-799E-4161-A5A4-1197490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6D8CF-C7AC-46B3-97EB-B30D181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740D-4B92-4F04-874A-DE30FA4E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005E2-0029-4291-B610-1AF626F8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4C7-9EB7-4D81-A1F5-90AFF069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CB663-0C7F-4CE1-8835-2C2913E5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58B-F88C-4651-99DD-8E7660D3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FA9-4635-4736-9E89-D9C6411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4A1-8C6F-4896-906C-053DA55A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BE3A-ACD0-4AB2-85CF-E6176DF4990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23F1-068E-4DA3-AE2A-F9687C00BBC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DF0A-C848-414E-9C72-419D69FA35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5816-4132-4BFB-8597-16B91C86DB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A9EE-06C0-41F5-87CC-FA40137DDA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5520" y="704880"/>
            <a:ext cx="7900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VLADA CRNE GORE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 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DIREKCIJA JAVNIH RADOVA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Date Placeholder 20"/>
          <p:cNvSpPr/>
          <p:nvPr/>
        </p:nvSpPr>
        <p:spPr>
          <a:xfrm>
            <a:off x="428760" y="6072120"/>
            <a:ext cx="82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1f497d"/>
                </a:solidFill>
                <a:latin typeface="Perpetua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285840" y="214200"/>
            <a:ext cx="873000" cy="100800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18" descr=""/>
          <p:cNvPicPr/>
          <p:nvPr/>
        </p:nvPicPr>
        <p:blipFill>
          <a:blip r:embed="rId2"/>
          <a:stretch/>
        </p:blipFill>
        <p:spPr>
          <a:xfrm>
            <a:off x="963720" y="2352600"/>
            <a:ext cx="723564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50920" y="2491920"/>
            <a:ext cx="50007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alternativnog puta Piperi – Lugovi u dužini od 8,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djelimično proširenje i nasipanj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13" descr="C:\Users\user\Desktop\Bukovica 2011\Bukovica foto 2010\22.04\P4225781.JPG"/>
          <p:cNvPicPr/>
          <p:nvPr/>
        </p:nvPicPr>
        <p:blipFill>
          <a:blip r:embed="rId2"/>
          <a:stretch/>
        </p:blipFill>
        <p:spPr>
          <a:xfrm>
            <a:off x="500040" y="1000080"/>
            <a:ext cx="3357720" cy="2481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C:\Users\user\Desktop\Bukovica 2011\Bukovica foto 2010\22.04\P4225784.JPG"/>
          <p:cNvPicPr/>
          <p:nvPr/>
        </p:nvPicPr>
        <p:blipFill>
          <a:blip r:embed="rId3"/>
          <a:stretch/>
        </p:blipFill>
        <p:spPr>
          <a:xfrm>
            <a:off x="500040" y="3571920"/>
            <a:ext cx="33577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50920" y="1699920"/>
            <a:ext cx="5041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sipanje puteva: Kovačevići – Debelo Brdo – Granica u dužini od 10,5 km, Kovačevići – Planjsko u dužini od 11 km i Kovačevići – Srečanje u dužini od 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rada elaborata za sanaciju klizišta na putu Piperi–Lugovi –Kovačevići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Vlada Crne Gore preko Direkcije javnih radov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za putnu infrastruktur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ložila </a:t>
            </a:r>
            <a:r>
              <a:rPr b="1" lang="en-US" sz="2000" spc="-1" strike="noStrike">
                <a:solidFill>
                  <a:srgbClr val="000000"/>
                </a:solidFill>
                <a:latin typeface="Blue Highway"/>
              </a:rPr>
              <a:t>49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Rectangle 4"/>
          <p:cNvSpPr/>
          <p:nvPr/>
        </p:nvSpPr>
        <p:spPr>
          <a:xfrm flipH="1">
            <a:off x="570960" y="28584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1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4" name="Picture 12" descr="C:\Users\user\Desktop\Bukovica 2011\Bukovica foto 2010\Bukovica, 2009\28.10\PA273460.JPG"/>
          <p:cNvPicPr/>
          <p:nvPr/>
        </p:nvPicPr>
        <p:blipFill>
          <a:blip r:embed="rId2"/>
          <a:stretch/>
        </p:blipFill>
        <p:spPr>
          <a:xfrm>
            <a:off x="714240" y="1214280"/>
            <a:ext cx="3143520" cy="2214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user\Desktop\Bukovica 2011\Bukovica foto 2010\Bukovica, 2009\28.10\PA273459.JPG"/>
          <p:cNvPicPr/>
          <p:nvPr/>
        </p:nvPicPr>
        <p:blipFill>
          <a:blip r:embed="rId3"/>
          <a:stretch/>
        </p:blipFill>
        <p:spPr>
          <a:xfrm>
            <a:off x="714240" y="3571920"/>
            <a:ext cx="3143520" cy="235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29040" y="1000080"/>
            <a:ext cx="45720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govorena izgradnja montažnih individualnih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tambenih i pomoćnih objekat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za povratak 12 porod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očela izgradnja 12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Picture 2" descr="C:\Users\user\Desktop\Bukovica 2011\Bukovica foto 2010\Bukovica, 2009\03.11\Bukovica 1, 03.11.jpg"/>
          <p:cNvPicPr/>
          <p:nvPr/>
        </p:nvPicPr>
        <p:blipFill>
          <a:blip r:embed="rId2"/>
          <a:stretch/>
        </p:blipFill>
        <p:spPr>
          <a:xfrm>
            <a:off x="571680" y="1071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C:\Users\user\Desktop\Bukovica 2011\Bukovica foto 2010\Bukovica, 2009\03.11\Bukovica 4, 03.11.jpg"/>
          <p:cNvPicPr/>
          <p:nvPr/>
        </p:nvPicPr>
        <p:blipFill>
          <a:blip r:embed="rId3"/>
          <a:stretch/>
        </p:blipFill>
        <p:spPr>
          <a:xfrm>
            <a:off x="571680" y="3571920"/>
            <a:ext cx="3143160" cy="2509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Users\user\Desktop\Bukovica 2011\Bukovica foto 2010\Bukovica, 2009\03.11\PB033690.JPG"/>
          <p:cNvPicPr/>
          <p:nvPr/>
        </p:nvPicPr>
        <p:blipFill>
          <a:blip r:embed="rId4"/>
          <a:stretch/>
        </p:blipFill>
        <p:spPr>
          <a:xfrm>
            <a:off x="4643280" y="3571920"/>
            <a:ext cx="328644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14480" y="2000160"/>
            <a:ext cx="50720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izgradnju objekat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258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3" name="Picture 3" descr="C:\Users\user\Desktop\Bukovica 2011\Bukovica foto 2010\Bukovica, 2009\13.11\PB133774.JPG"/>
          <p:cNvPicPr/>
          <p:nvPr/>
        </p:nvPicPr>
        <p:blipFill>
          <a:blip r:embed="rId2"/>
          <a:stretch/>
        </p:blipFill>
        <p:spPr>
          <a:xfrm>
            <a:off x="571680" y="3500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user\Desktop\Bukovica 2011\Bukovica foto 2010\Bukovica, 2009\13.11\PB133779.JPG"/>
          <p:cNvPicPr/>
          <p:nvPr/>
        </p:nvPicPr>
        <p:blipFill>
          <a:blip r:embed="rId3"/>
          <a:stretch/>
        </p:blipFill>
        <p:spPr>
          <a:xfrm>
            <a:off x="571680" y="1071720"/>
            <a:ext cx="292860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142880" y="1857240"/>
            <a:ext cx="4714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ipanje lokalnog puta Kovačevići – Planjsko – Moćevići u dužini od 3 km (nastavak radov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Završena izrada projekta sanacije klizišta na putnom pravcu Piperi – Lugovi –  Kovačevići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Rectangle 4"/>
          <p:cNvSpPr/>
          <p:nvPr/>
        </p:nvSpPr>
        <p:spPr>
          <a:xfrm flipH="1">
            <a:off x="785880" y="28584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2" name="Picture 16" descr="C:\Users\user\Desktop\Bukovica 2011\Bukovica foto 2010\22.04\P4225782.JPG"/>
          <p:cNvPicPr/>
          <p:nvPr/>
        </p:nvPicPr>
        <p:blipFill>
          <a:blip r:embed="rId2"/>
          <a:stretch/>
        </p:blipFill>
        <p:spPr>
          <a:xfrm>
            <a:off x="785880" y="357192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Users\user\Desktop\Bukovica 2011\Bukovica foto 2010\22.04\P4225786.JPG"/>
          <p:cNvPicPr/>
          <p:nvPr/>
        </p:nvPicPr>
        <p:blipFill>
          <a:blip r:embed="rId3"/>
          <a:stretch/>
        </p:blipFill>
        <p:spPr>
          <a:xfrm>
            <a:off x="785880" y="114300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71600" y="1714320"/>
            <a:ext cx="47149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248040" indent="-20772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robijeno i nasuto 4 km puteva do izgrađenih individualnih stambe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ulo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žila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01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Rectangle 4"/>
          <p:cNvSpPr/>
          <p:nvPr/>
        </p:nvSpPr>
        <p:spPr>
          <a:xfrm flipH="1">
            <a:off x="713520" y="28584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1" name="Picture 18" descr="C:\Users\user\Desktop\Bukovica 2011\Bukovica foto 2010\21.09\P9177808.JPG"/>
          <p:cNvPicPr/>
          <p:nvPr/>
        </p:nvPicPr>
        <p:blipFill>
          <a:blip r:embed="rId2"/>
          <a:stretch/>
        </p:blipFill>
        <p:spPr>
          <a:xfrm>
            <a:off x="857160" y="3606840"/>
            <a:ext cx="3000600" cy="2322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9" descr="C:\Users\user\Desktop\Bukovica 2011\Bukovica foto 2010\21.07\P7217055.JPG"/>
          <p:cNvPicPr/>
          <p:nvPr/>
        </p:nvPicPr>
        <p:blipFill>
          <a:blip r:embed="rId3"/>
          <a:stretch/>
        </p:blipFill>
        <p:spPr>
          <a:xfrm>
            <a:off x="857160" y="121428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780000" y="1267920"/>
            <a:ext cx="49291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70000" indent="-22608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objektima ugovorenim u 2009. g.Vrijednost izvedenih 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94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govorena izgradnja novih montažnih individualnih stambenih i pomoćnih objekata za povratak 20 porod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vi radovi na izgradnji novih objekata završeni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Rectangle 4"/>
          <p:cNvSpPr/>
          <p:nvPr/>
        </p:nvSpPr>
        <p:spPr>
          <a:xfrm flipH="1">
            <a:off x="928080" y="35712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0" name="Picture 7" descr="P7206977.JPG"/>
          <p:cNvPicPr/>
          <p:nvPr/>
        </p:nvPicPr>
        <p:blipFill>
          <a:blip r:embed="rId2"/>
          <a:stretch/>
        </p:blipFill>
        <p:spPr>
          <a:xfrm>
            <a:off x="1000080" y="1428840"/>
            <a:ext cx="2714760" cy="2071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P7206928.JPG"/>
          <p:cNvPicPr/>
          <p:nvPr/>
        </p:nvPicPr>
        <p:blipFill>
          <a:blip r:embed="rId3"/>
          <a:stretch/>
        </p:blipFill>
        <p:spPr>
          <a:xfrm>
            <a:off x="1000080" y="3714840"/>
            <a:ext cx="271476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571920" y="1428840"/>
            <a:ext cx="521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261720" indent="-21924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za izgradnju objekat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659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9" name="Picture 9" descr="Picture20.jpg"/>
          <p:cNvPicPr/>
          <p:nvPr/>
        </p:nvPicPr>
        <p:blipFill>
          <a:blip r:embed="rId2"/>
          <a:stretch/>
        </p:blipFill>
        <p:spPr>
          <a:xfrm>
            <a:off x="928800" y="1143000"/>
            <a:ext cx="2571480" cy="2427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P7206952.JPG"/>
          <p:cNvPicPr/>
          <p:nvPr/>
        </p:nvPicPr>
        <p:blipFill>
          <a:blip r:embed="rId3"/>
          <a:stretch/>
        </p:blipFill>
        <p:spPr>
          <a:xfrm>
            <a:off x="928800" y="3727440"/>
            <a:ext cx="2571480" cy="2344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PA228144.JPG"/>
          <p:cNvPicPr/>
          <p:nvPr/>
        </p:nvPicPr>
        <p:blipFill>
          <a:blip r:embed="rId4"/>
          <a:stretch/>
        </p:blipFill>
        <p:spPr>
          <a:xfrm>
            <a:off x="4429080" y="3714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Date Placeholder 6"/>
          <p:cNvSpPr/>
          <p:nvPr/>
        </p:nvSpPr>
        <p:spPr>
          <a:xfrm>
            <a:off x="500040" y="6215040"/>
            <a:ext cx="7972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8" name="Picture 8" descr="PA228147.JPG"/>
          <p:cNvPicPr/>
          <p:nvPr/>
        </p:nvPicPr>
        <p:blipFill>
          <a:blip r:embed="rId2"/>
          <a:stretch/>
        </p:blipFill>
        <p:spPr>
          <a:xfrm>
            <a:off x="4572000" y="1143000"/>
            <a:ext cx="3571920" cy="2444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7026683.JPG"/>
          <p:cNvPicPr/>
          <p:nvPr/>
        </p:nvPicPr>
        <p:blipFill>
          <a:blip r:embed="rId3"/>
          <a:stretch/>
        </p:blipFill>
        <p:spPr>
          <a:xfrm>
            <a:off x="1071720" y="114300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P1010145.JPG"/>
          <p:cNvPicPr/>
          <p:nvPr/>
        </p:nvPicPr>
        <p:blipFill>
          <a:blip r:embed="rId4"/>
          <a:stretch/>
        </p:blipFill>
        <p:spPr>
          <a:xfrm>
            <a:off x="1071720" y="371484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P7206977.JPG"/>
          <p:cNvPicPr/>
          <p:nvPr/>
        </p:nvPicPr>
        <p:blipFill>
          <a:blip r:embed="rId5"/>
          <a:stretch/>
        </p:blipFill>
        <p:spPr>
          <a:xfrm>
            <a:off x="4572000" y="371484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51280" y="1856880"/>
            <a:ext cx="4935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13.000</a:t>
            </a:r>
            <a:r>
              <a:rPr b="1" lang="en-US" sz="2400" spc="-1" strike="noStrike">
                <a:solidFill>
                  <a:srgbClr val="c0504d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Rectangle 4"/>
          <p:cNvSpPr/>
          <p:nvPr/>
        </p:nvSpPr>
        <p:spPr>
          <a:xfrm flipH="1">
            <a:off x="857160" y="35712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714240" y="107172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9" name="Picture 11" descr="PA160020.JPG"/>
          <p:cNvPicPr/>
          <p:nvPr/>
        </p:nvPicPr>
        <p:blipFill>
          <a:blip r:embed="rId2"/>
          <a:stretch/>
        </p:blipFill>
        <p:spPr>
          <a:xfrm>
            <a:off x="785880" y="3786120"/>
            <a:ext cx="3000240" cy="2144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PA160026.JPG"/>
          <p:cNvPicPr/>
          <p:nvPr/>
        </p:nvPicPr>
        <p:blipFill>
          <a:blip r:embed="rId3"/>
          <a:stretch/>
        </p:blipFill>
        <p:spPr>
          <a:xfrm>
            <a:off x="785880" y="1428840"/>
            <a:ext cx="30002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8720" y="144756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 inicijativu preśednika Crne Gore, gospodina Filipa Vujanovića, početkom 2008. g. formirana radna grupa s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datkom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definisanja modela za povratak raseljenih lica u MZ Bukovica iz perioda ratnih dešavan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Juna 2008. godine urađen Izvještaj o postojećem stanju sa prijedlogom mjera za obnovu infrastrukture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31. jula 2008. g. Vlada usvojila Izvještaj i donijela odluku o realizaciji infrastrukturnih projekata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osioci aktivnosti Vlada Crne Gore, Direkcija javnih radova, opština Pljevlja i Udruženje Bukovičan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Glavni pravci ulaganj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putnu infrastrukturu, elektro distributivnu mrežu i izgradnju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Rectangle 4"/>
          <p:cNvSpPr/>
          <p:nvPr/>
        </p:nvSpPr>
        <p:spPr>
          <a:xfrm flipH="1">
            <a:off x="642240" y="214200"/>
            <a:ext cx="74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MZ Bukov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320" y="857160"/>
            <a:ext cx="80722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8. godini uloženo : u putnu infrastrukturu                 460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    1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47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uloženo : u putnu infrastrukturu                 490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 25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74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10. godini uloženo : u putnu infrastrukturu                 101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659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11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87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0000"/>
                </a:solidFill>
                <a:latin typeface="Blue Highway"/>
              </a:rPr>
              <a:t>UKUPNO ULOŽENO</a:t>
            </a: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           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8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Rectangle 4"/>
          <p:cNvSpPr/>
          <p:nvPr/>
        </p:nvSpPr>
        <p:spPr>
          <a:xfrm flipH="1">
            <a:off x="1028160" y="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godina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0920" y="2205000"/>
            <a:ext cx="8072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putnu infrastrukturu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051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o ulo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ženo u izgradnju objekata                             917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elektrodistributivnu mrežu                  125.8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UKUPNO ULOŽENO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0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Rectangle 4"/>
          <p:cNvSpPr/>
          <p:nvPr/>
        </p:nvSpPr>
        <p:spPr>
          <a:xfrm flipH="1">
            <a:off x="971640" y="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projekti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8720" y="1485720"/>
            <a:ext cx="74865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18,5 km postojećeg asfaltnog puta i asfaltirano 4 km novog puta, sanirano i nasuto 50 km makadamskih lokalanih putev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rađena projektna dokumentacija za sanaciju klizišta na putnom pravcu Piperi – Lugovi – Kovačevići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đeno ukupno 3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3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individualna stambena objekta, 26 pomoćnih objekata i jedan stambeni objekat je rekonstruis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i rekonstruisano 12 km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Rectangle 4"/>
          <p:cNvSpPr/>
          <p:nvPr/>
        </p:nvSpPr>
        <p:spPr>
          <a:xfrm flipH="1">
            <a:off x="713520" y="35712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regled do sada urađeno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edg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8720" y="192852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Predlogom Budžeta Crne Gore za 2011. g. predviđena je realiacija infrastrukturnih projekata u MZ Bukovica u vrijednosti od </a:t>
            </a:r>
            <a:r>
              <a:rPr b="1" lang="en-US" sz="2800" spc="-1" strike="noStrike">
                <a:solidFill>
                  <a:srgbClr val="000000"/>
                </a:solidFill>
                <a:latin typeface="Blue Highway"/>
              </a:rPr>
              <a:t>525.000 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Nastavak aktivnosti će se sprovoditi u punoj saradnji sa Udruženjem Bukov</a:t>
            </a:r>
            <a:r>
              <a:rPr b="0" lang="sr-Latn-ME" sz="28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čana i lokalnom uprav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1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8571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Tw Cen MT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460680" y="1844640"/>
            <a:ext cx="543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cijenjeni b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džet za realizaciju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jekat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MZ Bukovic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p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t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nfrastruktu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ru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58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ektrodistributiv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mrež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35.000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dividual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stambe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 pomoć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objekt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2.76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 procijenjena vrijednost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4.475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2" descr="C:\Users\user\Desktop\Bukovica 2011\Bukovica foto 2010\Bukovica, 2009\28.05\P5282118.JPG"/>
          <p:cNvPicPr/>
          <p:nvPr/>
        </p:nvPicPr>
        <p:blipFill>
          <a:blip r:embed="rId2"/>
          <a:stretch/>
        </p:blipFill>
        <p:spPr>
          <a:xfrm>
            <a:off x="395280" y="1571760"/>
            <a:ext cx="3162240" cy="2071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user\Desktop\Bukovica 2011\Bukovica foto 2010\Bukovica, 2009\28.05\P5282123.JPG"/>
          <p:cNvPicPr/>
          <p:nvPr/>
        </p:nvPicPr>
        <p:blipFill>
          <a:blip r:embed="rId3"/>
          <a:stretch/>
        </p:blipFill>
        <p:spPr>
          <a:xfrm>
            <a:off x="395280" y="3786120"/>
            <a:ext cx="316224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56800" y="128592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Bukovica je najveća mjesna zajednica u opštini Pljev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Mjesni centar u Kovačevićima udaljen od Pljevalja 6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ovršina 104 km² ili 7,7% pljev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jske opštin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49 sela i zaseoka svrstanih u 26 nase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Picture 10" descr="TMP16.JPG"/>
          <p:cNvPicPr/>
          <p:nvPr/>
        </p:nvPicPr>
        <p:blipFill>
          <a:blip r:embed="rId2"/>
          <a:stretch/>
        </p:blipFill>
        <p:spPr>
          <a:xfrm>
            <a:off x="1566720" y="2781360"/>
            <a:ext cx="565164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11280" y="1628640"/>
            <a:ext cx="43578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31000" indent="-2214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rekonstrukcija putnog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ravca Poljana – Piperi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 dužini od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8,5km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od čega 9km novog asfalta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2" descr="C:\Users\user\Desktop\Bukovica 2011\Bukovica foto 2010\Bukovica 2008\05.09\P9050008.JPG"/>
          <p:cNvPicPr/>
          <p:nvPr/>
        </p:nvPicPr>
        <p:blipFill>
          <a:blip r:embed="rId2"/>
          <a:stretch/>
        </p:blipFill>
        <p:spPr>
          <a:xfrm>
            <a:off x="857160" y="1143000"/>
            <a:ext cx="3214800" cy="2454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C:\Users\user\Desktop\Bukovica 2011\Bukovica foto 2010\Bukovica 2008\05.09\P9050006.JPG"/>
          <p:cNvPicPr/>
          <p:nvPr/>
        </p:nvPicPr>
        <p:blipFill>
          <a:blip r:embed="rId3"/>
          <a:stretch/>
        </p:blipFill>
        <p:spPr>
          <a:xfrm>
            <a:off x="4714920" y="373536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Users\user\Desktop\Bukovica 2011\Bukovica foto 2010\Bukovica 2008\16.10\PA160034.JPG"/>
          <p:cNvPicPr/>
          <p:nvPr/>
        </p:nvPicPr>
        <p:blipFill>
          <a:blip r:embed="rId4"/>
          <a:stretch/>
        </p:blipFill>
        <p:spPr>
          <a:xfrm>
            <a:off x="857160" y="3714840"/>
            <a:ext cx="3186360" cy="238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286160" y="2071800"/>
            <a:ext cx="421488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acija makadamskog puta Piperi – Kovačevići u dužini od 8,5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Picture 2" descr="C:\Users\user\Desktop\Bukovica 2011\Bukovica foto 2010\Bukovica 2008\05.09\P9050011.JPG"/>
          <p:cNvPicPr/>
          <p:nvPr/>
        </p:nvPicPr>
        <p:blipFill>
          <a:blip r:embed="rId2"/>
          <a:stretch/>
        </p:blipFill>
        <p:spPr>
          <a:xfrm>
            <a:off x="571680" y="1285920"/>
            <a:ext cx="364320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57400" y="1642680"/>
            <a:ext cx="4857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kupno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8. godini uloženo </a:t>
            </a: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460.0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, od čega Vlada Crne Gore preko Direkcije javnih radova 440.000 i opština Pljevlja                 20.000 €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Picture 6" descr="C:\Users\user\Desktop\Bukovica 2011\Bukovica foto 2010\Bukovica 2008\05.09\P9050005.JPG"/>
          <p:cNvPicPr/>
          <p:nvPr/>
        </p:nvPicPr>
        <p:blipFill>
          <a:blip r:embed="rId2"/>
          <a:stretch/>
        </p:blipFill>
        <p:spPr>
          <a:xfrm>
            <a:off x="857160" y="3591000"/>
            <a:ext cx="2857680" cy="2481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:\Users\user\Desktop\Bukovica 2011\Bukovica foto 2010\Bukovica 2008\05.09\P9050007.JPG"/>
          <p:cNvPicPr/>
          <p:nvPr/>
        </p:nvPicPr>
        <p:blipFill>
          <a:blip r:embed="rId3"/>
          <a:stretch/>
        </p:blipFill>
        <p:spPr>
          <a:xfrm>
            <a:off x="857160" y="1098720"/>
            <a:ext cx="285768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571920" y="1642680"/>
            <a:ext cx="47433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 saradnji sa Elektroprivredom Crne Gore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otpočel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2.8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7142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10" descr="PA160019.JPG"/>
          <p:cNvPicPr/>
          <p:nvPr/>
        </p:nvPicPr>
        <p:blipFill>
          <a:blip r:embed="rId2"/>
          <a:stretch/>
        </p:blipFill>
        <p:spPr>
          <a:xfrm>
            <a:off x="571680" y="12859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user\Desktop\Bukovica 2011\Bukovica foto 2010\Bukovica 2008\16.10\PA160027.JPG"/>
          <p:cNvPicPr/>
          <p:nvPr/>
        </p:nvPicPr>
        <p:blipFill>
          <a:blip r:embed="rId3"/>
          <a:stretch/>
        </p:blipFill>
        <p:spPr>
          <a:xfrm>
            <a:off x="571680" y="3714840"/>
            <a:ext cx="276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357440" y="2143080"/>
            <a:ext cx="45003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Asfaltiranje lokalnog puta Lugovi – Kovačevići u dužini od 4 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6" name="Picture 4" descr="C:\Users\user\Desktop\Bukovica 2011\Bukovica foto 2010\Bukovica 2008\16.10\PA160031.JPG"/>
          <p:cNvPicPr/>
          <p:nvPr/>
        </p:nvPicPr>
        <p:blipFill>
          <a:blip r:embed="rId2"/>
          <a:stretch/>
        </p:blipFill>
        <p:spPr>
          <a:xfrm>
            <a:off x="500040" y="1285920"/>
            <a:ext cx="3500640" cy="221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C:\Users\user\Desktop\Bukovica 2011\Bukovica foto 2010\Bukovica 2008\16.10\PA160035.JPG"/>
          <p:cNvPicPr/>
          <p:nvPr/>
        </p:nvPicPr>
        <p:blipFill>
          <a:blip r:embed="rId3"/>
          <a:stretch/>
        </p:blipFill>
        <p:spPr>
          <a:xfrm>
            <a:off x="500040" y="3714840"/>
            <a:ext cx="3500640" cy="230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9:03:24Z</dcterms:created>
  <dc:creator>user</dc:creator>
  <dc:description/>
  <dc:language>en-US</dc:language>
  <cp:lastModifiedBy> </cp:lastModifiedBy>
  <dcterms:modified xsi:type="dcterms:W3CDTF">2011-03-21T08:52:34Z</dcterms:modified>
  <cp:revision>174</cp:revision>
  <dc:subject/>
  <dc:title>Vlada Crne Gore          Direkcija javnih radova</dc:title>
</cp:coreProperties>
</file>