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kj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kcija javnih radova                                              Vlada Crne Gore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69AA-A3DF-4EAD-8417-9893EE84B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kcija javnih radova                                              Vlada Crne Gore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kj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075-59EE-4092-8DA8-17106C78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C83-E24F-4810-BFF6-76288F04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2F4-C2EE-498A-BD5E-036F977F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8FD-17C8-44E0-A0F2-79EDE853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9A1F-3B01-4565-9BF2-38073734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7727-0798-430D-807C-CAE833DF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76BD-622A-4D45-9E49-367AAD4E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9A9E-E8C9-4532-A883-370FCBC9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27E1-95C9-437D-8914-338119EA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B585-0648-42DB-9A29-88F2BBC1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0A53-FED1-4791-B981-D66B9E71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649-D3D5-4097-82B8-3C2DF418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12B7-4B16-4E3D-BEB9-9B156DB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C859-95D1-4576-9EDD-0611969D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C5E1-8625-48C5-80D8-9F89441D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CEF0-D420-40DA-9619-EDA7E974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1253-31D5-470B-9317-B52D7394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4181-5F59-4FA6-A94E-F181C282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B7E50-1D2C-445D-87B8-79B55F03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CA94-EC82-4B69-B4BD-1CE46561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44F65-A1B7-4713-9D5D-F9E21E84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17BAA-366E-462E-8D64-71F773B7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17B-2362-408C-97D9-0386A169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BEF9-E3C3-4CE8-B94B-820F0AFB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A105-32A5-41EC-B706-39159868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6D29-9426-41FB-ACE0-EE041271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E94B-88EF-42B5-A73F-900B6FBB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B259-1453-4428-AEC2-C1A4F631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418C-8938-44A8-BA6D-F6D9F1B9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8913-5A64-4967-AACA-A2B6412A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F749E-F025-49E9-83A4-AAC0EF9C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B492-74D8-44AF-A501-A38DCDC2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09DD3-B62B-4F84-BADA-B17B91B1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EA0-32FB-48FE-A0E2-CB08FAAA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9853-FB82-4A7A-8759-15F584B5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29A71-0201-447F-B1D1-676489DA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4A107-581F-4CD7-9065-5AF40FC2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2629C-104D-43A1-B521-411E0C85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ED8B-97A3-499E-B528-ADDB7D5B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32134-5ED0-4AEE-B82A-65A052D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2B25E-9EC8-4242-85B9-0817312F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4C615-4EAF-4708-841A-A2EDF501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6826B-4A06-4974-AD85-5419C788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20C6E-1118-4398-B3F9-F884A8A8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84D-C6C7-49E2-A57F-02B15297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58380-0DA5-4D95-9A8A-539E6959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B62B9-61EE-41E5-86A5-8EC34114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AF972-EAE9-414F-8010-C35CCDB7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CBDCE-ADCF-408A-9C89-BE56044D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246D2-5FC1-4411-9E4D-E3AE0AA8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2885-6F85-41E1-B28F-9BAE6AEC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DF33E-F586-4551-A9F9-E3073C4E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C7E1B-8F5F-4BED-9F4A-FFAE4813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FF6C3-D749-46CF-BF8E-D0FB5913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3A382-B28D-4D48-A439-647876D9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6F3-24A8-4E86-B400-AE47D314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F707-53DE-478E-BAEA-8B80C533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9D6-F61C-4ACF-A82F-0B67CEAE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363-1207-4818-AF0E-B8195CE8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73C-28EA-4EE2-AC77-B3FE5CD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8AA4-E9C5-4CDC-ABEC-33B77BA2952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D4F4-CCDD-4F11-95E7-C7E44C66B43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4734-594C-4C6E-8309-2C148ADF3E4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6525-3DD3-4E91-BEC4-9B18C6742F9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Perpetua"/>
              </a:rPr>
              <a:t>3/13/2011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79DC-6CF8-4D5A-A44E-89FA4ADE7E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5520" y="704880"/>
            <a:ext cx="7900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VLADA CRNE GORE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     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DIREKCIJA JAVNIH RADOVA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6" name="Date Placeholder 20"/>
          <p:cNvSpPr/>
          <p:nvPr/>
        </p:nvSpPr>
        <p:spPr>
          <a:xfrm>
            <a:off x="428760" y="6072120"/>
            <a:ext cx="82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1f497d"/>
                </a:solidFill>
                <a:latin typeface="Perpetua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285840" y="214200"/>
            <a:ext cx="873000" cy="100800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18" descr=""/>
          <p:cNvPicPr/>
          <p:nvPr/>
        </p:nvPicPr>
        <p:blipFill>
          <a:blip r:embed="rId2"/>
          <a:stretch/>
        </p:blipFill>
        <p:spPr>
          <a:xfrm>
            <a:off x="963720" y="2352600"/>
            <a:ext cx="723564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50920" y="2491920"/>
            <a:ext cx="500076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anacija alternativnog puta Piperi – Lugovi u dužini od 8,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(djelimično proširenje i nasipanje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2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Picture 13" descr="C:\Users\user\Desktop\Bukovica 2011\Bukovica foto 2010\22.04\P4225781.JPG"/>
          <p:cNvPicPr/>
          <p:nvPr/>
        </p:nvPicPr>
        <p:blipFill>
          <a:blip r:embed="rId2"/>
          <a:stretch/>
        </p:blipFill>
        <p:spPr>
          <a:xfrm>
            <a:off x="500040" y="1000080"/>
            <a:ext cx="3357720" cy="2481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C:\Users\user\Desktop\Bukovica 2011\Bukovica foto 2010\22.04\P4225784.JPG"/>
          <p:cNvPicPr/>
          <p:nvPr/>
        </p:nvPicPr>
        <p:blipFill>
          <a:blip r:embed="rId3"/>
          <a:stretch/>
        </p:blipFill>
        <p:spPr>
          <a:xfrm>
            <a:off x="500040" y="3571920"/>
            <a:ext cx="335772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50920" y="1699920"/>
            <a:ext cx="5041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asipanje puteva: Kovačevići – Debelo Brdo – Granica u dužini od 10,5 km, Kovačevići – Planjsko u dužini od 11 km i Kovačevići – Srečanje u dužini od 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Izrada elaborata za sanaciju klizišta na putu Piperi–Lugovi –Kovačevići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9. godini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Vlada Crne Gore preko Direkcije javnih radov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za putnu infrastrukturu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ložila </a:t>
            </a:r>
            <a:r>
              <a:rPr b="1" lang="en-US" sz="2000" spc="-1" strike="noStrike">
                <a:solidFill>
                  <a:srgbClr val="000000"/>
                </a:solidFill>
                <a:latin typeface="Blue Highway"/>
              </a:rPr>
              <a:t>49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Rectangle 4"/>
          <p:cNvSpPr/>
          <p:nvPr/>
        </p:nvSpPr>
        <p:spPr>
          <a:xfrm flipH="1">
            <a:off x="570960" y="28584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1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4" name="Picture 12" descr="C:\Users\user\Desktop\Bukovica 2011\Bukovica foto 2010\Bukovica, 2009\28.10\PA273460.JPG"/>
          <p:cNvPicPr/>
          <p:nvPr/>
        </p:nvPicPr>
        <p:blipFill>
          <a:blip r:embed="rId2"/>
          <a:stretch/>
        </p:blipFill>
        <p:spPr>
          <a:xfrm>
            <a:off x="714240" y="1214280"/>
            <a:ext cx="3143520" cy="2214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user\Desktop\Bukovica 2011\Bukovica foto 2010\Bukovica, 2009\28.10\PA273459.JPG"/>
          <p:cNvPicPr/>
          <p:nvPr/>
        </p:nvPicPr>
        <p:blipFill>
          <a:blip r:embed="rId3"/>
          <a:stretch/>
        </p:blipFill>
        <p:spPr>
          <a:xfrm>
            <a:off x="714240" y="3571920"/>
            <a:ext cx="3143520" cy="235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929040" y="1000080"/>
            <a:ext cx="45720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govorena izgradnja montažnih individualnih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tambenih i pomoćnih objekat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za povratak 12 porod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očela izgradnja 12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Rectangle 4"/>
          <p:cNvSpPr/>
          <p:nvPr/>
        </p:nvSpPr>
        <p:spPr>
          <a:xfrm flipH="1">
            <a:off x="1143720" y="2858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5000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3" name="Picture 2" descr="C:\Users\user\Desktop\Bukovica 2011\Bukovica foto 2010\Bukovica, 2009\03.11\Bukovica 1, 03.11.jpg"/>
          <p:cNvPicPr/>
          <p:nvPr/>
        </p:nvPicPr>
        <p:blipFill>
          <a:blip r:embed="rId2"/>
          <a:stretch/>
        </p:blipFill>
        <p:spPr>
          <a:xfrm>
            <a:off x="571680" y="1071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C:\Users\user\Desktop\Bukovica 2011\Bukovica foto 2010\Bukovica, 2009\03.11\Bukovica 4, 03.11.jpg"/>
          <p:cNvPicPr/>
          <p:nvPr/>
        </p:nvPicPr>
        <p:blipFill>
          <a:blip r:embed="rId3"/>
          <a:stretch/>
        </p:blipFill>
        <p:spPr>
          <a:xfrm>
            <a:off x="571680" y="3571920"/>
            <a:ext cx="3143160" cy="2509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C:\Users\user\Desktop\Bukovica 2011\Bukovica foto 2010\Bukovica, 2009\03.11\PB033690.JPG"/>
          <p:cNvPicPr/>
          <p:nvPr/>
        </p:nvPicPr>
        <p:blipFill>
          <a:blip r:embed="rId4"/>
          <a:stretch/>
        </p:blipFill>
        <p:spPr>
          <a:xfrm>
            <a:off x="4643280" y="3571920"/>
            <a:ext cx="328644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14480" y="2000160"/>
            <a:ext cx="50720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09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izgradnju objekat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ložil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258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Rectangle 4"/>
          <p:cNvSpPr/>
          <p:nvPr/>
        </p:nvSpPr>
        <p:spPr>
          <a:xfrm flipH="1">
            <a:off x="1143720" y="28584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5000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3" name="Picture 3" descr="C:\Users\user\Desktop\Bukovica 2011\Bukovica foto 2010\Bukovica, 2009\13.11\PB133774.JPG"/>
          <p:cNvPicPr/>
          <p:nvPr/>
        </p:nvPicPr>
        <p:blipFill>
          <a:blip r:embed="rId2"/>
          <a:stretch/>
        </p:blipFill>
        <p:spPr>
          <a:xfrm>
            <a:off x="571680" y="3500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user\Desktop\Bukovica 2011\Bukovica foto 2010\Bukovica, 2009\13.11\PB133779.JPG"/>
          <p:cNvPicPr/>
          <p:nvPr/>
        </p:nvPicPr>
        <p:blipFill>
          <a:blip r:embed="rId3"/>
          <a:stretch/>
        </p:blipFill>
        <p:spPr>
          <a:xfrm>
            <a:off x="571680" y="1071720"/>
            <a:ext cx="292860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142880" y="1857240"/>
            <a:ext cx="4714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ipanje lokalnog puta Kovačevići – Planjsko – Moćevići u dužini od 3 km (nastavak radova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Završena izrada projekta sanacije klizišta na putnom pravcu Piperi – Lugovi –  Kovačevići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Rectangle 4"/>
          <p:cNvSpPr/>
          <p:nvPr/>
        </p:nvSpPr>
        <p:spPr>
          <a:xfrm flipH="1">
            <a:off x="785880" y="28584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6429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2" name="Picture 16" descr="C:\Users\user\Desktop\Bukovica 2011\Bukovica foto 2010\22.04\P4225782.JPG"/>
          <p:cNvPicPr/>
          <p:nvPr/>
        </p:nvPicPr>
        <p:blipFill>
          <a:blip r:embed="rId2"/>
          <a:stretch/>
        </p:blipFill>
        <p:spPr>
          <a:xfrm>
            <a:off x="785880" y="3571920"/>
            <a:ext cx="3214800" cy="2286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C:\Users\user\Desktop\Bukovica 2011\Bukovica foto 2010\22.04\P4225786.JPG"/>
          <p:cNvPicPr/>
          <p:nvPr/>
        </p:nvPicPr>
        <p:blipFill>
          <a:blip r:embed="rId3"/>
          <a:stretch/>
        </p:blipFill>
        <p:spPr>
          <a:xfrm>
            <a:off x="785880" y="114300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071600" y="1714320"/>
            <a:ext cx="47149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248040" indent="-20772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498240" indent="-20772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robijeno i nasuto 4 km puteva do izgrađenih individualnih stambe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498240" indent="-20772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10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putnu infrastrukturu ulo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žila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01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7" name="Rectangle 4"/>
          <p:cNvSpPr/>
          <p:nvPr/>
        </p:nvSpPr>
        <p:spPr>
          <a:xfrm flipH="1">
            <a:off x="713520" y="28584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8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6429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1" name="Picture 18" descr="C:\Users\user\Desktop\Bukovica 2011\Bukovica foto 2010\21.09\P9177808.JPG"/>
          <p:cNvPicPr/>
          <p:nvPr/>
        </p:nvPicPr>
        <p:blipFill>
          <a:blip r:embed="rId2"/>
          <a:stretch/>
        </p:blipFill>
        <p:spPr>
          <a:xfrm>
            <a:off x="857160" y="3606840"/>
            <a:ext cx="3000600" cy="2322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9" descr="C:\Users\user\Desktop\Bukovica 2011\Bukovica foto 2010\21.07\P7217055.JPG"/>
          <p:cNvPicPr/>
          <p:nvPr/>
        </p:nvPicPr>
        <p:blipFill>
          <a:blip r:embed="rId3"/>
          <a:stretch/>
        </p:blipFill>
        <p:spPr>
          <a:xfrm>
            <a:off x="857160" y="1214280"/>
            <a:ext cx="30243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780000" y="1267920"/>
            <a:ext cx="49291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270000" indent="-22608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tavljeni i završeni radovi na objektima ugovorenim u 2009. g.Vrijednost izvedenih radov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94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govorena izgradnja novih montažnih individualnih stambenih i pomoćnih objekata za povratak 20 porod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1800" indent="-226080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vi radovi na izgradnji novih objekata završeni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Rectangle 4"/>
          <p:cNvSpPr/>
          <p:nvPr/>
        </p:nvSpPr>
        <p:spPr>
          <a:xfrm flipH="1">
            <a:off x="928080" y="35712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571680" y="1071720"/>
            <a:ext cx="774036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0" name="Picture 7" descr="P7206977.JPG"/>
          <p:cNvPicPr/>
          <p:nvPr/>
        </p:nvPicPr>
        <p:blipFill>
          <a:blip r:embed="rId2"/>
          <a:stretch/>
        </p:blipFill>
        <p:spPr>
          <a:xfrm>
            <a:off x="1000080" y="1428840"/>
            <a:ext cx="2714760" cy="2071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P7206928.JPG"/>
          <p:cNvPicPr/>
          <p:nvPr/>
        </p:nvPicPr>
        <p:blipFill>
          <a:blip r:embed="rId3"/>
          <a:stretch/>
        </p:blipFill>
        <p:spPr>
          <a:xfrm>
            <a:off x="1000080" y="3714840"/>
            <a:ext cx="271476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571920" y="1428840"/>
            <a:ext cx="521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261720" indent="-21924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dnja individualnih stambenih i pomoćnih objekat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25600" indent="-219240">
              <a:lnSpc>
                <a:spcPct val="8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10. godini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lada Crne Gore preko Direkcije javnih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adov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za izgradnju objekat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ložil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25600" indent="-219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000000"/>
                </a:solidFill>
                <a:latin typeface="Blue Highway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659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71424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9" name="Picture 9" descr="Picture20.jpg"/>
          <p:cNvPicPr/>
          <p:nvPr/>
        </p:nvPicPr>
        <p:blipFill>
          <a:blip r:embed="rId2"/>
          <a:stretch/>
        </p:blipFill>
        <p:spPr>
          <a:xfrm>
            <a:off x="928800" y="1143000"/>
            <a:ext cx="2571480" cy="2427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1" descr="P7206952.JPG"/>
          <p:cNvPicPr/>
          <p:nvPr/>
        </p:nvPicPr>
        <p:blipFill>
          <a:blip r:embed="rId3"/>
          <a:stretch/>
        </p:blipFill>
        <p:spPr>
          <a:xfrm>
            <a:off x="928800" y="3727440"/>
            <a:ext cx="2571480" cy="23446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PA228144.JPG"/>
          <p:cNvPicPr/>
          <p:nvPr/>
        </p:nvPicPr>
        <p:blipFill>
          <a:blip r:embed="rId4"/>
          <a:stretch/>
        </p:blipFill>
        <p:spPr>
          <a:xfrm>
            <a:off x="4429080" y="371484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Date Placeholder 6"/>
          <p:cNvSpPr/>
          <p:nvPr/>
        </p:nvSpPr>
        <p:spPr>
          <a:xfrm>
            <a:off x="500040" y="6215040"/>
            <a:ext cx="7972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1f497d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71424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8" name="Picture 8" descr="PA228147.JPG"/>
          <p:cNvPicPr/>
          <p:nvPr/>
        </p:nvPicPr>
        <p:blipFill>
          <a:blip r:embed="rId2"/>
          <a:stretch/>
        </p:blipFill>
        <p:spPr>
          <a:xfrm>
            <a:off x="4572000" y="1143000"/>
            <a:ext cx="3571920" cy="2444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P7026683.JPG"/>
          <p:cNvPicPr/>
          <p:nvPr/>
        </p:nvPicPr>
        <p:blipFill>
          <a:blip r:embed="rId3"/>
          <a:stretch/>
        </p:blipFill>
        <p:spPr>
          <a:xfrm>
            <a:off x="1071720" y="1143000"/>
            <a:ext cx="3214440" cy="2428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P1010145.JPG"/>
          <p:cNvPicPr/>
          <p:nvPr/>
        </p:nvPicPr>
        <p:blipFill>
          <a:blip r:embed="rId4"/>
          <a:stretch/>
        </p:blipFill>
        <p:spPr>
          <a:xfrm>
            <a:off x="1071720" y="371484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P7206977.JPG"/>
          <p:cNvPicPr/>
          <p:nvPr/>
        </p:nvPicPr>
        <p:blipFill>
          <a:blip r:embed="rId5"/>
          <a:stretch/>
        </p:blipFill>
        <p:spPr>
          <a:xfrm>
            <a:off x="4572000" y="371484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51280" y="1856880"/>
            <a:ext cx="49356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niskonaponske elektro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Nastavljeni i završeni radovi na sanaciji i rekonstrukciji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rijednost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13.000</a:t>
            </a:r>
            <a:r>
              <a:rPr b="1" lang="en-US" sz="2400" spc="-1" strike="noStrike">
                <a:solidFill>
                  <a:srgbClr val="c0504d"/>
                </a:solidFill>
                <a:latin typeface="Blue Highwa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Rectangle 4"/>
          <p:cNvSpPr/>
          <p:nvPr/>
        </p:nvSpPr>
        <p:spPr>
          <a:xfrm flipH="1">
            <a:off x="857160" y="35712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0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714240" y="107172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9" name="Picture 11" descr="PA160020.JPG"/>
          <p:cNvPicPr/>
          <p:nvPr/>
        </p:nvPicPr>
        <p:blipFill>
          <a:blip r:embed="rId2"/>
          <a:stretch/>
        </p:blipFill>
        <p:spPr>
          <a:xfrm>
            <a:off x="785880" y="3786120"/>
            <a:ext cx="3000240" cy="2144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PA160026.JPG"/>
          <p:cNvPicPr/>
          <p:nvPr/>
        </p:nvPicPr>
        <p:blipFill>
          <a:blip r:embed="rId3"/>
          <a:stretch/>
        </p:blipFill>
        <p:spPr>
          <a:xfrm>
            <a:off x="785880" y="1428840"/>
            <a:ext cx="300024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1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8720" y="1447560"/>
            <a:ext cx="74865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a inicijativu preśednika Crne Gore, gospodina Filipa Vujanovića, početkom 2008. g. formirana radna grupa sa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datkom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definisanja modela za povratak raseljenih lica u MZ Bukovica iz perioda ratnih dešavan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Juna 2008. godine urađen Izvještaj o postojećem stanju sa prijedlogom mjera za obnovu infrastrukture u MZ Bukov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31. jula 2008. g. Vlada usvojila Izvještaj i donijela odluku o realizaciji infrastrukturnih projekata u MZ Bukovic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osioci aktivnosti Vlada Crne Gore, Direkcija javnih radova, opština Pljevlja i Udruženje Bukovičan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7120" indent="-22392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Glavni pravci ulaganj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u putnu infrastrukturu, elektro distributivnu mrežu i izgradnju individualnih stambenih i pomoćnih objekat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Rectangle 4"/>
          <p:cNvSpPr/>
          <p:nvPr/>
        </p:nvSpPr>
        <p:spPr>
          <a:xfrm flipH="1">
            <a:off x="642240" y="214200"/>
            <a:ext cx="742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MZ Bukovic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2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71320" y="857160"/>
            <a:ext cx="80722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8. godini uloženo : u putnu infrastrukturu                 460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elektrodistributivnu mrežu          12.8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472.8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09. godini uloženo : u putnu infrastrukturu                 490.000 €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izgradnju objekata                   258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748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2010. godini uloženo : u putnu infrastrukturu                 101.000 €,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izgradnju objekata                  659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         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elektrodistributivnu mrežu      113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                                                       </a:t>
            </a:r>
            <a:r>
              <a:rPr b="0" lang="sr-Latn-ME" sz="2000" spc="-1" strike="noStrike">
                <a:solidFill>
                  <a:srgbClr val="ff0000"/>
                </a:solidFill>
                <a:latin typeface="Blue Highway"/>
              </a:rPr>
              <a:t>Ukupno                    873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59200" indent="-21708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0000"/>
                </a:solidFill>
                <a:latin typeface="Blue Highway"/>
              </a:rPr>
              <a:t>UKUPNO ULOŽENO</a:t>
            </a:r>
            <a:r>
              <a:rPr b="1" lang="sr-Latn-ME" sz="2800" spc="-1" strike="noStrike">
                <a:solidFill>
                  <a:srgbClr val="ff0000"/>
                </a:solidFill>
                <a:latin typeface="Blue Highway"/>
              </a:rPr>
              <a:t>                             </a:t>
            </a:r>
            <a:r>
              <a:rPr b="1" lang="sr-Latn-ME" sz="3000" spc="-1" strike="noStrike">
                <a:solidFill>
                  <a:srgbClr val="ff0000"/>
                </a:solidFill>
                <a:latin typeface="Blue Highway"/>
              </a:rPr>
              <a:t>  2.093.800 €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Rectangle 4"/>
          <p:cNvSpPr/>
          <p:nvPr/>
        </p:nvSpPr>
        <p:spPr>
          <a:xfrm flipH="1">
            <a:off x="1028160" y="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Finansijsk</a:t>
            </a: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a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 konstrukcija do sada urađenog- pregled po godinam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714240" y="1000080"/>
            <a:ext cx="7669440" cy="4608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l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9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0920" y="2205000"/>
            <a:ext cx="8072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kupno uloženo u putnu infrastrukturu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.051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kupno ulo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ženo u izgradnju objekata                             917.000 €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kupno uloženo u elektrodistributivnu mrežu                  125.800 €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64600" indent="-2214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0000"/>
                </a:solidFill>
                <a:latin typeface="Blue Highway"/>
              </a:rPr>
              <a:t>UKUPNO ULOŽENO                  </a:t>
            </a:r>
            <a:r>
              <a:rPr b="1" lang="sr-Latn-ME" sz="3000" spc="-1" strike="noStrike">
                <a:solidFill>
                  <a:srgbClr val="ff0000"/>
                </a:solidFill>
                <a:latin typeface="Blue Highway"/>
              </a:rPr>
              <a:t>  2.093.000 €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Rectangle 4"/>
          <p:cNvSpPr/>
          <p:nvPr/>
        </p:nvSpPr>
        <p:spPr>
          <a:xfrm flipH="1">
            <a:off x="971640" y="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Finansijsk</a:t>
            </a: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a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 konstrukcija do sada urađenog- pregled po projektim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2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714240" y="1000080"/>
            <a:ext cx="7669440" cy="4608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l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8720" y="1485720"/>
            <a:ext cx="74865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irano 18,5 km postojećeg asfaltnog puta i asfaltirano 4 km novog puta, sanirano i nasuto 50 km makadamskih lokalanih putev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rađena projektna dokumentacija za sanaciju klizišta na putnom pravcu Piperi – Lugovi – Kovačevići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Izgr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đeno ukupno 3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3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individualna stambena objekta, 26 pomoćnih objekata i jedan stambeni objekat je rekonstruis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7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irano i rekonstruisano 12 km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Rectangle 4"/>
          <p:cNvSpPr/>
          <p:nvPr/>
        </p:nvSpPr>
        <p:spPr>
          <a:xfrm flipH="1">
            <a:off x="713520" y="35712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Pregled do sada urađeno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571680" y="1071720"/>
            <a:ext cx="774036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edg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3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8720" y="1928520"/>
            <a:ext cx="74865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Predlogom Budžeta Crne Gore za 2011. g. predviđena je realiacija infrastrukturnih projekata u MZ Bukovica u vrijednosti od </a:t>
            </a:r>
            <a:r>
              <a:rPr b="1" lang="en-US" sz="2800" spc="-1" strike="noStrike">
                <a:solidFill>
                  <a:srgbClr val="000000"/>
                </a:solidFill>
                <a:latin typeface="Blue Highway"/>
              </a:rPr>
              <a:t>525.000 €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Nastavak aktivnosti će se sprovoditi u punoj saradnji sa Udruženjem Bukov</a:t>
            </a:r>
            <a:r>
              <a:rPr b="0" lang="sr-Latn-ME" sz="2800" spc="-1" strike="noStrike">
                <a:solidFill>
                  <a:srgbClr val="000000"/>
                </a:solidFill>
                <a:latin typeface="Blue Highwa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Blue Highway"/>
              </a:rPr>
              <a:t>čana i lokalnom upravo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Rectangle 4"/>
          <p:cNvSpPr/>
          <p:nvPr/>
        </p:nvSpPr>
        <p:spPr>
          <a:xfrm flipH="1">
            <a:off x="642240" y="2858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11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6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857160" y="100008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7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</a:t>
            </a:r>
            <a:r>
              <a:rPr b="0" lang="en-US" sz="2000" spc="-1" strike="noStrike">
                <a:solidFill>
                  <a:srgbClr val="1f497d"/>
                </a:solidFill>
                <a:latin typeface="Tw Cen MT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460680" y="1844640"/>
            <a:ext cx="543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rocijenjeni b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džet za realizaciju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projekata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u MZ Bukovica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p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t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infrastruktu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ru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.58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lektrodistributiv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mrež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35.000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Za i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ndividual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stambe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i pomoć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objekt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2.760.000 €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kupn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a procijenjena vrijednost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4.475.0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Rectangle 4"/>
          <p:cNvSpPr/>
          <p:nvPr/>
        </p:nvSpPr>
        <p:spPr>
          <a:xfrm flipH="1">
            <a:off x="642240" y="2142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teritoriji MZ Bukovic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2" descr="C:\Users\user\Desktop\Bukovica 2011\Bukovica foto 2010\Bukovica, 2009\28.05\P5282118.JPG"/>
          <p:cNvPicPr/>
          <p:nvPr/>
        </p:nvPicPr>
        <p:blipFill>
          <a:blip r:embed="rId2"/>
          <a:stretch/>
        </p:blipFill>
        <p:spPr>
          <a:xfrm>
            <a:off x="395280" y="1571760"/>
            <a:ext cx="3162240" cy="2071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user\Desktop\Bukovica 2011\Bukovica foto 2010\Bukovica, 2009\28.05\P5282123.JPG"/>
          <p:cNvPicPr/>
          <p:nvPr/>
        </p:nvPicPr>
        <p:blipFill>
          <a:blip r:embed="rId3"/>
          <a:stretch/>
        </p:blipFill>
        <p:spPr>
          <a:xfrm>
            <a:off x="395280" y="3786120"/>
            <a:ext cx="316224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56800" y="1285920"/>
            <a:ext cx="74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Bukovica je najveća mjesna zajednica u opštini Pljevl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Mjesni centar u Kovačevićima udaljen od Pljevalja 65 k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Površina 104 km² ili 7,7% pljev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ljske opštin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49 sela i zaseoka svrstanih u 26 nasel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Rectangle 4"/>
          <p:cNvSpPr/>
          <p:nvPr/>
        </p:nvSpPr>
        <p:spPr>
          <a:xfrm flipH="1">
            <a:off x="642240" y="2142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Povratak raseljenih lica i poboljšanje uslova života na teritoriji MZ Bukovic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9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642960" y="1357200"/>
            <a:ext cx="7740720" cy="3672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Picture 10" descr="TMP16.JPG"/>
          <p:cNvPicPr/>
          <p:nvPr/>
        </p:nvPicPr>
        <p:blipFill>
          <a:blip r:embed="rId2"/>
          <a:stretch/>
        </p:blipFill>
        <p:spPr>
          <a:xfrm>
            <a:off x="1566720" y="2781360"/>
            <a:ext cx="565164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Tw Cen MT"/>
              </a:rPr>
              <a:t>    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11280" y="1628640"/>
            <a:ext cx="43578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264600" indent="-2214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531000" indent="-2214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Sanacija 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 rekonstrukcija putnog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pravca Poljana – Piperi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u dužini od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18,5km</a:t>
            </a:r>
            <a:r>
              <a:rPr b="0" lang="sr-Latn-ME" sz="20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lue Highway"/>
              </a:rPr>
              <a:t>(od čega 9km novog asfalta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2" descr="C:\Users\user\Desktop\Bukovica 2011\Bukovica foto 2010\Bukovica 2008\05.09\P9050008.JPG"/>
          <p:cNvPicPr/>
          <p:nvPr/>
        </p:nvPicPr>
        <p:blipFill>
          <a:blip r:embed="rId2"/>
          <a:stretch/>
        </p:blipFill>
        <p:spPr>
          <a:xfrm>
            <a:off x="857160" y="1143000"/>
            <a:ext cx="3214800" cy="2454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C:\Users\user\Desktop\Bukovica 2011\Bukovica foto 2010\Bukovica 2008\05.09\P9050006.JPG"/>
          <p:cNvPicPr/>
          <p:nvPr/>
        </p:nvPicPr>
        <p:blipFill>
          <a:blip r:embed="rId3"/>
          <a:stretch/>
        </p:blipFill>
        <p:spPr>
          <a:xfrm>
            <a:off x="4714920" y="373536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C:\Users\user\Desktop\Bukovica 2011\Bukovica foto 2010\Bukovica 2008\16.10\PA160034.JPG"/>
          <p:cNvPicPr/>
          <p:nvPr/>
        </p:nvPicPr>
        <p:blipFill>
          <a:blip r:embed="rId4"/>
          <a:stretch/>
        </p:blipFill>
        <p:spPr>
          <a:xfrm>
            <a:off x="857160" y="3714840"/>
            <a:ext cx="3186360" cy="2388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4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286160" y="2071800"/>
            <a:ext cx="421488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Sanacija makadamskog puta Piperi – Kovačevići u dužini od 8,5k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0" name="Picture 2" descr="C:\Users\user\Desktop\Bukovica 2011\Bukovica foto 2010\Bukovica 2008\05.09\P9050011.JPG"/>
          <p:cNvPicPr/>
          <p:nvPr/>
        </p:nvPicPr>
        <p:blipFill>
          <a:blip r:embed="rId2"/>
          <a:stretch/>
        </p:blipFill>
        <p:spPr>
          <a:xfrm>
            <a:off x="571680" y="1285920"/>
            <a:ext cx="364320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57400" y="1642680"/>
            <a:ext cx="48574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kupno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 putnu infrastrukturu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u 2008. godini uloženo </a:t>
            </a:r>
            <a:r>
              <a:rPr b="1" lang="sr-Latn-ME" sz="2400" spc="-1" strike="noStrike">
                <a:solidFill>
                  <a:srgbClr val="000000"/>
                </a:solidFill>
                <a:latin typeface="Blue Highway"/>
              </a:rPr>
              <a:t>460.000 €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, od čega Vlada Crne Gore preko Direkcije javnih radova 440.000 i opština Pljevlja                 20.000 €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Rectangle 4"/>
          <p:cNvSpPr/>
          <p:nvPr/>
        </p:nvSpPr>
        <p:spPr>
          <a:xfrm flipH="1">
            <a:off x="1356480" y="35712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28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Picture 6" descr="C:\Users\user\Desktop\Bukovica 2011\Bukovica foto 2010\Bukovica 2008\05.09\P9050005.JPG"/>
          <p:cNvPicPr/>
          <p:nvPr/>
        </p:nvPicPr>
        <p:blipFill>
          <a:blip r:embed="rId2"/>
          <a:stretch/>
        </p:blipFill>
        <p:spPr>
          <a:xfrm>
            <a:off x="857160" y="3591000"/>
            <a:ext cx="2857680" cy="2481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C:\Users\user\Desktop\Bukovica 2011\Bukovica foto 2010\Bukovica 2008\05.09\P9050007.JPG"/>
          <p:cNvPicPr/>
          <p:nvPr/>
        </p:nvPicPr>
        <p:blipFill>
          <a:blip r:embed="rId3"/>
          <a:stretch/>
        </p:blipFill>
        <p:spPr>
          <a:xfrm>
            <a:off x="857160" y="1098720"/>
            <a:ext cx="2857680" cy="233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1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571920" y="1642680"/>
            <a:ext cx="47433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 algn="just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niskonaponske elektro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U saradnji sa Elektroprivredom Crne Gore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otpočeli radovi na sanaciji i rekonstrukciji nisko naponske elektrodistributivne mrež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>
              <a:lnSpc>
                <a:spcPct val="10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Vrijednost radova </a:t>
            </a:r>
            <a:r>
              <a:rPr b="0" lang="sr-Latn-ME" sz="2400" spc="-1" strike="noStrike">
                <a:solidFill>
                  <a:srgbClr val="000000"/>
                </a:solidFill>
                <a:latin typeface="Blue Highway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Blue Highway"/>
              </a:rPr>
              <a:t>12.800 €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8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4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71424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10" descr="PA160019.JPG"/>
          <p:cNvPicPr/>
          <p:nvPr/>
        </p:nvPicPr>
        <p:blipFill>
          <a:blip r:embed="rId2"/>
          <a:stretch/>
        </p:blipFill>
        <p:spPr>
          <a:xfrm>
            <a:off x="571680" y="12859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Users\user\Desktop\Bukovica 2011\Bukovica foto 2010\Bukovica 2008\16.10\PA160027.JPG"/>
          <p:cNvPicPr/>
          <p:nvPr/>
        </p:nvPicPr>
        <p:blipFill>
          <a:blip r:embed="rId3"/>
          <a:stretch/>
        </p:blipFill>
        <p:spPr>
          <a:xfrm>
            <a:off x="571680" y="3714840"/>
            <a:ext cx="276192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000" spc="-1" strike="noStrike">
                <a:solidFill>
                  <a:srgbClr val="1f497d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Date Placeholder 6"/>
          <p:cNvSpPr/>
          <p:nvPr/>
        </p:nvSpPr>
        <p:spPr>
          <a:xfrm>
            <a:off x="457200" y="6143760"/>
            <a:ext cx="8043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 </a:t>
            </a:r>
            <a:r>
              <a:rPr b="0" lang="sr-Latn-ME" sz="2000" spc="-1" strike="noStrike">
                <a:solidFill>
                  <a:srgbClr val="1f497d"/>
                </a:solidFill>
                <a:latin typeface="Blue Highway"/>
              </a:rPr>
              <a:t>VLADA CRNE GORE - DIREKCIJA JAVNIH RADOV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357440" y="2143080"/>
            <a:ext cx="450036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Rekonstrukcija putne infrastruk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Asfaltiranje lokalnog puta Lugovi – Kovačevići u dužini od 4 k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Rectangle 4"/>
          <p:cNvSpPr/>
          <p:nvPr/>
        </p:nvSpPr>
        <p:spPr>
          <a:xfrm flipH="1">
            <a:off x="64224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Blue Highway"/>
              </a:rPr>
              <a:t>Reali</a:t>
            </a:r>
            <a:r>
              <a:rPr b="1" lang="sr-Latn-ME" sz="3200" spc="-1" strike="noStrike">
                <a:solidFill>
                  <a:srgbClr val="1f497d"/>
                </a:solidFill>
                <a:latin typeface="Blue Highway"/>
              </a:rPr>
              <a:t>zacija aktivnosti u 2009. godin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http://upload.wikimedia.org/wikipedia/commons/thumb/2/23/Coat_of_arms_of_Montenegro.svg/220px-Coat_of_arms_of_Montenegro.svg.png"/>
          <p:cNvPicPr/>
          <p:nvPr/>
        </p:nvPicPr>
        <p:blipFill>
          <a:blip r:embed="rId1"/>
          <a:stretch/>
        </p:blipFill>
        <p:spPr>
          <a:xfrm>
            <a:off x="7858080" y="5950080"/>
            <a:ext cx="642960" cy="7426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8"/>
          <p:cNvSpPr/>
          <p:nvPr/>
        </p:nvSpPr>
        <p:spPr>
          <a:xfrm>
            <a:off x="642960" y="6143760"/>
            <a:ext cx="709128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642960" y="928800"/>
            <a:ext cx="7740720" cy="3636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6" name="Picture 4" descr="C:\Users\user\Desktop\Bukovica 2011\Bukovica foto 2010\Bukovica 2008\16.10\PA160031.JPG"/>
          <p:cNvPicPr/>
          <p:nvPr/>
        </p:nvPicPr>
        <p:blipFill>
          <a:blip r:embed="rId2"/>
          <a:stretch/>
        </p:blipFill>
        <p:spPr>
          <a:xfrm>
            <a:off x="500040" y="1285920"/>
            <a:ext cx="3500640" cy="2214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C:\Users\user\Desktop\Bukovica 2011\Bukovica foto 2010\Bukovica 2008\16.10\PA160035.JPG"/>
          <p:cNvPicPr/>
          <p:nvPr/>
        </p:nvPicPr>
        <p:blipFill>
          <a:blip r:embed="rId3"/>
          <a:stretch/>
        </p:blipFill>
        <p:spPr>
          <a:xfrm>
            <a:off x="500040" y="3714840"/>
            <a:ext cx="3500640" cy="230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9:03:24Z</dcterms:created>
  <dc:creator>user</dc:creator>
  <dc:description/>
  <dc:language>en-US</dc:language>
  <cp:lastModifiedBy> </cp:lastModifiedBy>
  <dcterms:modified xsi:type="dcterms:W3CDTF">2011-03-21T08:52:34Z</dcterms:modified>
  <cp:revision>174</cp:revision>
  <dc:subject/>
  <dc:title>Vlada Crne Gore          Direkcija javnih radova</dc:title>
</cp:coreProperties>
</file>