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ME" sz="1200" spc="-1" strike="noStrike">
                <a:solidFill>
                  <a:srgbClr val="414141"/>
                </a:solidFill>
                <a:latin typeface="Gill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date/time&gt;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move the slid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ME" sz="1200" spc="-1" strike="noStrike">
                <a:solidFill>
                  <a:srgbClr val="414141"/>
                </a:solidFill>
                <a:latin typeface="Gill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6B3-40BE-40C4-B352-9A2AEC491CAB}" type="slidenum"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number&gt;</a:t>
            </a:fld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666A-35AA-4BA9-86C1-1E9F252789EF}" type="slidenum"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number&gt;</a:t>
            </a:fld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0"/>
            <a:ext cx="1229364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8044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9708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4772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9800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431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81288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1937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algn="ctr">
              <a:buClr>
                <a:srgbClr val="404140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122936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28332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0140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5564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0988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6.png"/><Relationship Id="rId9" Type="http://schemas.openxmlformats.org/officeDocument/2006/relationships/image" Target="../media/image20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50680" y="1079280"/>
            <a:ext cx="10807560" cy="41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Agenda reformi</a:t>
            </a:r>
            <a:br>
              <a:rPr sz="8000"/>
            </a:b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u komunalnoj</a:t>
            </a:r>
            <a:br>
              <a:rPr sz="8000"/>
            </a:b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oblasti</a:t>
            </a:r>
            <a:endParaRPr b="0" lang="en-US" sz="8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2"/>
          <a:stretch/>
        </p:blipFill>
        <p:spPr>
          <a:xfrm>
            <a:off x="787320" y="8278920"/>
            <a:ext cx="452124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1994040" y="2540160"/>
            <a:ext cx="9486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napređenje kvaliteta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zgradnja komunalne infrastruktur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Sporazumi o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češće privatnog sektora u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rganizacija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Sporazumi o pružanju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ulacija sektor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inansiranje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ormiranje cijena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0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9"/>
          <p:cNvSpPr/>
          <p:nvPr/>
        </p:nvSpPr>
        <p:spPr>
          <a:xfrm>
            <a:off x="5120640" y="1282680"/>
            <a:ext cx="276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ZAZOVI I PRIORITET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1994040" y="2540160"/>
            <a:ext cx="94867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Definisanje vlasništva nad osnovnim sredstv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rganizovanje komunalnih djelatnosti na tržišnim princip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vajanje osnovnih komunalnih djelatnosti od pomoćnih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otpuno pokrivanje troško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ionalizacija u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ulatorni okvir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Transparentnost u povjeravanju obavljanja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inansiranje izgradnje komunalne infrastruktur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Jačanje inspekcijskog nadzor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9"/>
          <p:cNvSpPr/>
          <p:nvPr/>
        </p:nvSpPr>
        <p:spPr>
          <a:xfrm>
            <a:off x="5120640" y="1282680"/>
            <a:ext cx="276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ZAZOVI I PRIORITET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5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8"/>
          <p:cNvSpPr/>
          <p:nvPr/>
        </p:nvSpPr>
        <p:spPr>
          <a:xfrm>
            <a:off x="4969800" y="12826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9" name="Picture 9" descr=""/>
          <p:cNvPicPr/>
          <p:nvPr/>
        </p:nvPicPr>
        <p:blipFill>
          <a:blip r:embed="rId4"/>
          <a:stretch/>
        </p:blipFill>
        <p:spPr>
          <a:xfrm>
            <a:off x="6350040" y="2400480"/>
            <a:ext cx="279360" cy="68450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0" descr=""/>
          <p:cNvPicPr/>
          <p:nvPr/>
        </p:nvPicPr>
        <p:blipFill>
          <a:blip r:embed="rId5"/>
          <a:stretch/>
        </p:blipFill>
        <p:spPr>
          <a:xfrm>
            <a:off x="2082960" y="2336760"/>
            <a:ext cx="3771720" cy="218448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11"/>
          <p:cNvSpPr/>
          <p:nvPr/>
        </p:nvSpPr>
        <p:spPr>
          <a:xfrm>
            <a:off x="2235240" y="2552760"/>
            <a:ext cx="318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Stvoriti adekvatan pravni/zakonodavni i poslovni ambijent koji će omogućiti promjenu stanja u komunalnoj obla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2" name="Picture 12" descr=""/>
          <p:cNvPicPr/>
          <p:nvPr/>
        </p:nvPicPr>
        <p:blipFill>
          <a:blip r:embed="rId6"/>
          <a:stretch/>
        </p:blipFill>
        <p:spPr>
          <a:xfrm>
            <a:off x="6210360" y="31370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3" descr=""/>
          <p:cNvPicPr/>
          <p:nvPr/>
        </p:nvPicPr>
        <p:blipFill>
          <a:blip r:embed="rId7"/>
          <a:stretch/>
        </p:blipFill>
        <p:spPr>
          <a:xfrm>
            <a:off x="6210360" y="43434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4" descr=""/>
          <p:cNvPicPr/>
          <p:nvPr/>
        </p:nvPicPr>
        <p:blipFill>
          <a:blip r:embed="rId8"/>
          <a:stretch/>
        </p:blipFill>
        <p:spPr>
          <a:xfrm>
            <a:off x="7137360" y="393696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5"/>
          <p:cNvSpPr/>
          <p:nvPr/>
        </p:nvSpPr>
        <p:spPr>
          <a:xfrm>
            <a:off x="7670880" y="422928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eorganizacija komunalnog sektor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6" name="Picture 16" descr=""/>
          <p:cNvPicPr/>
          <p:nvPr/>
        </p:nvPicPr>
        <p:blipFill>
          <a:blip r:embed="rId9"/>
          <a:stretch/>
        </p:blipFill>
        <p:spPr>
          <a:xfrm>
            <a:off x="6210360" y="5562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7" descr=""/>
          <p:cNvPicPr/>
          <p:nvPr/>
        </p:nvPicPr>
        <p:blipFill>
          <a:blip r:embed="rId10"/>
          <a:stretch/>
        </p:blipFill>
        <p:spPr>
          <a:xfrm>
            <a:off x="2082960" y="516888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8"/>
          <p:cNvSpPr/>
          <p:nvPr/>
        </p:nvSpPr>
        <p:spPr>
          <a:xfrm>
            <a:off x="2197080" y="533412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iješiti pitanje vlasništva nad komunalnom infrastrukturom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9" name="Picture 19" descr=""/>
          <p:cNvPicPr/>
          <p:nvPr/>
        </p:nvPicPr>
        <p:blipFill>
          <a:blip r:embed="rId11"/>
          <a:stretch/>
        </p:blipFill>
        <p:spPr>
          <a:xfrm>
            <a:off x="6210360" y="67946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0" descr=""/>
          <p:cNvPicPr/>
          <p:nvPr/>
        </p:nvPicPr>
        <p:blipFill>
          <a:blip r:embed="rId12"/>
          <a:stretch/>
        </p:blipFill>
        <p:spPr>
          <a:xfrm>
            <a:off x="7137360" y="63882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21"/>
          <p:cNvSpPr/>
          <p:nvPr/>
        </p:nvSpPr>
        <p:spPr>
          <a:xfrm>
            <a:off x="7670880" y="655308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poslovanje komunalnih preduzeća na tržišnim principim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42" name="Picture 22" descr=""/>
          <p:cNvPicPr/>
          <p:nvPr/>
        </p:nvPicPr>
        <p:blipFill>
          <a:blip r:embed="rId13"/>
          <a:stretch/>
        </p:blipFill>
        <p:spPr>
          <a:xfrm>
            <a:off x="6210360" y="80010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3" descr=""/>
          <p:cNvPicPr/>
          <p:nvPr/>
        </p:nvPicPr>
        <p:blipFill>
          <a:blip r:embed="rId14"/>
          <a:stretch/>
        </p:blipFill>
        <p:spPr>
          <a:xfrm>
            <a:off x="2082960" y="760716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24"/>
          <p:cNvSpPr/>
          <p:nvPr/>
        </p:nvSpPr>
        <p:spPr>
          <a:xfrm>
            <a:off x="2197080" y="777240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izvore finansiranja zajedničke komunalne potrošnj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5" name="Rectangle 25"/>
          <p:cNvSpPr/>
          <p:nvPr/>
        </p:nvSpPr>
        <p:spPr>
          <a:xfrm>
            <a:off x="6410520" y="31878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6" name="Rectangle 26"/>
          <p:cNvSpPr/>
          <p:nvPr/>
        </p:nvSpPr>
        <p:spPr>
          <a:xfrm>
            <a:off x="6410520" y="4406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2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7" name="Rectangle 27"/>
          <p:cNvSpPr/>
          <p:nvPr/>
        </p:nvSpPr>
        <p:spPr>
          <a:xfrm>
            <a:off x="6410520" y="56386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3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8" name="Rectangle 28"/>
          <p:cNvSpPr/>
          <p:nvPr/>
        </p:nvSpPr>
        <p:spPr>
          <a:xfrm>
            <a:off x="6410520" y="68580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4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9" name="Rectangle 29"/>
          <p:cNvSpPr/>
          <p:nvPr/>
        </p:nvSpPr>
        <p:spPr>
          <a:xfrm>
            <a:off x="6410520" y="80643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5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1" descr=""/>
          <p:cNvPicPr/>
          <p:nvPr/>
        </p:nvPicPr>
        <p:blipFill>
          <a:blip r:embed="rId1"/>
          <a:stretch/>
        </p:blipFill>
        <p:spPr>
          <a:xfrm>
            <a:off x="-12600" y="-5076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2095560" y="7238880"/>
            <a:ext cx="3771720" cy="18036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"/>
          <p:cNvPicPr/>
          <p:nvPr/>
        </p:nvPicPr>
        <p:blipFill>
          <a:blip r:embed="rId3"/>
          <a:stretch/>
        </p:blipFill>
        <p:spPr>
          <a:xfrm>
            <a:off x="6451560" y="-228600"/>
            <a:ext cx="63720" cy="982980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4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4" name="Rectangle 5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56" name="Picture 7" descr=""/>
          <p:cNvPicPr/>
          <p:nvPr/>
        </p:nvPicPr>
        <p:blipFill>
          <a:blip r:embed="rId4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8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58" name="Picture 9" descr=""/>
          <p:cNvPicPr/>
          <p:nvPr/>
        </p:nvPicPr>
        <p:blipFill>
          <a:blip r:embed="rId5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10"/>
          <p:cNvSpPr/>
          <p:nvPr/>
        </p:nvSpPr>
        <p:spPr>
          <a:xfrm>
            <a:off x="4969800" y="12826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0" name="Picture 11" descr=""/>
          <p:cNvPicPr/>
          <p:nvPr/>
        </p:nvPicPr>
        <p:blipFill>
          <a:blip r:embed="rId6"/>
          <a:stretch/>
        </p:blipFill>
        <p:spPr>
          <a:xfrm>
            <a:off x="6210360" y="232416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2" descr=""/>
          <p:cNvPicPr/>
          <p:nvPr/>
        </p:nvPicPr>
        <p:blipFill>
          <a:blip r:embed="rId7"/>
          <a:stretch/>
        </p:blipFill>
        <p:spPr>
          <a:xfrm>
            <a:off x="7137360" y="19432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3"/>
          <p:cNvSpPr/>
          <p:nvPr/>
        </p:nvSpPr>
        <p:spPr>
          <a:xfrm>
            <a:off x="7670880" y="223524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konkurenciju u komunalnom sektoru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3" name="Picture 14" descr=""/>
          <p:cNvPicPr/>
          <p:nvPr/>
        </p:nvPicPr>
        <p:blipFill>
          <a:blip r:embed="rId8"/>
          <a:stretch/>
        </p:blipFill>
        <p:spPr>
          <a:xfrm>
            <a:off x="6210360" y="340344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5" descr=""/>
          <p:cNvPicPr/>
          <p:nvPr/>
        </p:nvPicPr>
        <p:blipFill>
          <a:blip r:embed="rId9"/>
          <a:stretch/>
        </p:blipFill>
        <p:spPr>
          <a:xfrm>
            <a:off x="2082960" y="300996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16"/>
          <p:cNvSpPr/>
          <p:nvPr/>
        </p:nvSpPr>
        <p:spPr>
          <a:xfrm>
            <a:off x="2197080" y="334008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naprijediti poslovanje komunalnih preduzeć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6" name="Picture 17" descr=""/>
          <p:cNvPicPr/>
          <p:nvPr/>
        </p:nvPicPr>
        <p:blipFill>
          <a:blip r:embed="rId10"/>
          <a:stretch/>
        </p:blipFill>
        <p:spPr>
          <a:xfrm>
            <a:off x="6210360" y="45338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8" descr=""/>
          <p:cNvPicPr/>
          <p:nvPr/>
        </p:nvPicPr>
        <p:blipFill>
          <a:blip r:embed="rId11"/>
          <a:stretch/>
        </p:blipFill>
        <p:spPr>
          <a:xfrm>
            <a:off x="7137360" y="41274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9"/>
          <p:cNvSpPr/>
          <p:nvPr/>
        </p:nvSpPr>
        <p:spPr>
          <a:xfrm>
            <a:off x="7670880" y="445788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pravljanje sredstvima za kapitalne investicij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9" name="Rectangle 20"/>
          <p:cNvSpPr/>
          <p:nvPr/>
        </p:nvSpPr>
        <p:spPr>
          <a:xfrm>
            <a:off x="6410520" y="2374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6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0" name="Rectangle 21"/>
          <p:cNvSpPr/>
          <p:nvPr/>
        </p:nvSpPr>
        <p:spPr>
          <a:xfrm>
            <a:off x="6410520" y="3479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7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1" name="Rectangle 22"/>
          <p:cNvSpPr/>
          <p:nvPr/>
        </p:nvSpPr>
        <p:spPr>
          <a:xfrm>
            <a:off x="6410520" y="45975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8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2" name="Picture 23" descr=""/>
          <p:cNvPicPr/>
          <p:nvPr/>
        </p:nvPicPr>
        <p:blipFill>
          <a:blip r:embed="rId12"/>
          <a:stretch/>
        </p:blipFill>
        <p:spPr>
          <a:xfrm>
            <a:off x="6210360" y="5613480"/>
            <a:ext cx="558720" cy="55872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24"/>
          <p:cNvSpPr/>
          <p:nvPr/>
        </p:nvSpPr>
        <p:spPr>
          <a:xfrm>
            <a:off x="6410520" y="5676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9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4" name="Picture 25" descr=""/>
          <p:cNvPicPr/>
          <p:nvPr/>
        </p:nvPicPr>
        <p:blipFill>
          <a:blip r:embed="rId13"/>
          <a:stretch/>
        </p:blipFill>
        <p:spPr>
          <a:xfrm>
            <a:off x="2095560" y="4775040"/>
            <a:ext cx="3771720" cy="218448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26"/>
          <p:cNvSpPr/>
          <p:nvPr/>
        </p:nvSpPr>
        <p:spPr>
          <a:xfrm>
            <a:off x="2247840" y="4991040"/>
            <a:ext cx="3187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39"/>
                </a:solidFill>
                <a:latin typeface="Georgia"/>
                <a:ea typeface="Georgia"/>
              </a:rPr>
              <a:t>Uspostavljanje računovodstvenih standarda u javnim djelatnostima na način kako je to urađeno u zemljama Evropske unije.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6" name="Picture 27" descr=""/>
          <p:cNvPicPr/>
          <p:nvPr/>
        </p:nvPicPr>
        <p:blipFill>
          <a:blip r:embed="rId14"/>
          <a:stretch/>
        </p:blipFill>
        <p:spPr>
          <a:xfrm>
            <a:off x="6210360" y="67309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8" descr=""/>
          <p:cNvPicPr/>
          <p:nvPr/>
        </p:nvPicPr>
        <p:blipFill>
          <a:blip r:embed="rId15"/>
          <a:stretch/>
        </p:blipFill>
        <p:spPr>
          <a:xfrm>
            <a:off x="7137360" y="63244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29"/>
          <p:cNvSpPr/>
          <p:nvPr/>
        </p:nvSpPr>
        <p:spPr>
          <a:xfrm>
            <a:off x="7670880" y="665496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egionalizacija obavljanja komunalnih djelatno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9" name="Rectangle 30"/>
          <p:cNvSpPr/>
          <p:nvPr/>
        </p:nvSpPr>
        <p:spPr>
          <a:xfrm>
            <a:off x="6336360" y="6794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0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80" name="Picture 31" descr=""/>
          <p:cNvPicPr/>
          <p:nvPr/>
        </p:nvPicPr>
        <p:blipFill>
          <a:blip r:embed="rId16"/>
          <a:stretch/>
        </p:blipFill>
        <p:spPr>
          <a:xfrm>
            <a:off x="6210360" y="7899480"/>
            <a:ext cx="558720" cy="5587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32"/>
          <p:cNvSpPr/>
          <p:nvPr/>
        </p:nvSpPr>
        <p:spPr>
          <a:xfrm>
            <a:off x="6336360" y="79754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1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2" name="Rectangle 33"/>
          <p:cNvSpPr/>
          <p:nvPr/>
        </p:nvSpPr>
        <p:spPr>
          <a:xfrm>
            <a:off x="2247840" y="7391520"/>
            <a:ext cx="3187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39"/>
                </a:solidFill>
                <a:latin typeface="Georgia"/>
                <a:ea typeface="Georgia"/>
              </a:rPr>
              <a:t>Uspostavljanje mehanizama zaštite javnog interesa u obavljanju komunalnih djelatnosti.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3" descr=""/>
          <p:cNvPicPr/>
          <p:nvPr/>
        </p:nvPicPr>
        <p:blipFill>
          <a:blip r:embed="rId2"/>
          <a:stretch/>
        </p:blipFill>
        <p:spPr>
          <a:xfrm>
            <a:off x="7088040" y="2120760"/>
            <a:ext cx="3772080" cy="1803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"/>
          <p:cNvPicPr/>
          <p:nvPr/>
        </p:nvPicPr>
        <p:blipFill>
          <a:blip r:embed="rId3"/>
          <a:stretch/>
        </p:blipFill>
        <p:spPr>
          <a:xfrm>
            <a:off x="6427800" y="-3073320"/>
            <a:ext cx="63360" cy="98298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-76320" y="9220320"/>
            <a:ext cx="13080960" cy="53316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-76320" y="-38160"/>
            <a:ext cx="1308096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10733040" y="9347040"/>
            <a:ext cx="2184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89" name="Picture 8" descr=""/>
          <p:cNvPicPr/>
          <p:nvPr/>
        </p:nvPicPr>
        <p:blipFill>
          <a:blip r:embed="rId4"/>
          <a:stretch/>
        </p:blipFill>
        <p:spPr>
          <a:xfrm>
            <a:off x="141120" y="9245520"/>
            <a:ext cx="2032200" cy="45720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9"/>
          <p:cNvSpPr/>
          <p:nvPr/>
        </p:nvSpPr>
        <p:spPr>
          <a:xfrm>
            <a:off x="811440" y="1144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1" name="Picture 10" descr=""/>
          <p:cNvPicPr/>
          <p:nvPr/>
        </p:nvPicPr>
        <p:blipFill>
          <a:blip r:embed="rId5"/>
          <a:stretch/>
        </p:blipFill>
        <p:spPr>
          <a:xfrm>
            <a:off x="4281480" y="11685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11"/>
          <p:cNvSpPr/>
          <p:nvPr/>
        </p:nvSpPr>
        <p:spPr>
          <a:xfrm>
            <a:off x="4946040" y="12700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7520040" y="2336760"/>
            <a:ext cx="3187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bolju poziciju u pregovorima sa EU po pitanju rokova izgradnje komunalne infrastruktur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4" name="Picture 13" descr=""/>
          <p:cNvPicPr/>
          <p:nvPr/>
        </p:nvPicPr>
        <p:blipFill>
          <a:blip r:embed="rId6"/>
          <a:stretch/>
        </p:blipFill>
        <p:spPr>
          <a:xfrm>
            <a:off x="6186600" y="27432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4" descr=""/>
          <p:cNvPicPr/>
          <p:nvPr/>
        </p:nvPicPr>
        <p:blipFill>
          <a:blip r:embed="rId7"/>
          <a:stretch/>
        </p:blipFill>
        <p:spPr>
          <a:xfrm>
            <a:off x="6186600" y="38228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5" descr=""/>
          <p:cNvPicPr/>
          <p:nvPr/>
        </p:nvPicPr>
        <p:blipFill>
          <a:blip r:embed="rId8"/>
          <a:stretch/>
        </p:blipFill>
        <p:spPr>
          <a:xfrm>
            <a:off x="1969920" y="34164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6"/>
          <p:cNvSpPr/>
          <p:nvPr/>
        </p:nvSpPr>
        <p:spPr>
          <a:xfrm>
            <a:off x="2122560" y="358128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vođenje privatnog sektora u obavljanje komunalnih djelatno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8" name="Picture 17" descr=""/>
          <p:cNvPicPr/>
          <p:nvPr/>
        </p:nvPicPr>
        <p:blipFill>
          <a:blip r:embed="rId9"/>
          <a:stretch/>
        </p:blipFill>
        <p:spPr>
          <a:xfrm>
            <a:off x="6186600" y="500364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8" descr=""/>
          <p:cNvPicPr/>
          <p:nvPr/>
        </p:nvPicPr>
        <p:blipFill>
          <a:blip r:embed="rId10"/>
          <a:stretch/>
        </p:blipFill>
        <p:spPr>
          <a:xfrm>
            <a:off x="7126200" y="466092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9"/>
          <p:cNvSpPr/>
          <p:nvPr/>
        </p:nvSpPr>
        <p:spPr>
          <a:xfrm>
            <a:off x="7672320" y="495288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Izgradnja komunalne infrastruktur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1" name="Rectangle 21"/>
          <p:cNvSpPr/>
          <p:nvPr/>
        </p:nvSpPr>
        <p:spPr>
          <a:xfrm>
            <a:off x="6312600" y="2793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2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2" name="Rectangle 22"/>
          <p:cNvSpPr/>
          <p:nvPr/>
        </p:nvSpPr>
        <p:spPr>
          <a:xfrm>
            <a:off x="6312600" y="38862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3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3" name="Rectangle 23"/>
          <p:cNvSpPr/>
          <p:nvPr/>
        </p:nvSpPr>
        <p:spPr>
          <a:xfrm>
            <a:off x="6312600" y="5079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4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904" name="Picture 24" descr=""/>
          <p:cNvPicPr/>
          <p:nvPr/>
        </p:nvPicPr>
        <p:blipFill>
          <a:blip r:embed="rId11"/>
          <a:stretch/>
        </p:blipFill>
        <p:spPr>
          <a:xfrm>
            <a:off x="6186600" y="6273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5" descr=""/>
          <p:cNvPicPr/>
          <p:nvPr/>
        </p:nvPicPr>
        <p:blipFill>
          <a:blip r:embed="rId12"/>
          <a:stretch/>
        </p:blipFill>
        <p:spPr>
          <a:xfrm>
            <a:off x="1965240" y="58816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20"/>
          <p:cNvSpPr/>
          <p:nvPr/>
        </p:nvSpPr>
        <p:spPr>
          <a:xfrm>
            <a:off x="1965240" y="6097680"/>
            <a:ext cx="345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Georgia"/>
              </a:rPr>
              <a:t>Promjena svijesti u pogledu vršenja komunalnih uslug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7" name="Oval 1"/>
          <p:cNvSpPr/>
          <p:nvPr/>
        </p:nvSpPr>
        <p:spPr>
          <a:xfrm>
            <a:off x="6246720" y="6342120"/>
            <a:ext cx="443160" cy="441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c00000"/>
                </a:solidFill>
                <a:latin typeface="Gill Sans Light"/>
              </a:rPr>
              <a:t>15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0" name="Picture 7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8"/>
          <p:cNvSpPr/>
          <p:nvPr/>
        </p:nvSpPr>
        <p:spPr>
          <a:xfrm>
            <a:off x="5321160" y="1282680"/>
            <a:ext cx="229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SADRŽAJ AGEND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1994040" y="2425680"/>
            <a:ext cx="9486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Uvod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Karakteristike komunalnih djelat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Komunalne djelatnosti u Crnoj Gori i način njihovog obavljanj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Iskustva drugih zemalja u obavljanju komunalnih djelat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Situacija u sektoru koja uslovljava potrebu reform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Dosadašnje aktiv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Ciljevi reform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Izazovi u komunalnoj obla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Prioritetne mjere i plan implementacij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Procjena sredstava za realizaciju Agend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Umjesto zaključak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6"/>
          <p:cNvSpPr/>
          <p:nvPr/>
        </p:nvSpPr>
        <p:spPr>
          <a:xfrm>
            <a:off x="5491080" y="127080"/>
            <a:ext cx="1976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UVOD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1295280" y="3086280"/>
            <a:ext cx="4457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Za potrebe Agende, sakupljen je veliki broj podataka i informacija kroz neposrednu komunikaciju sa svim opštinama i komunalnim preduzećima (izuzev Plava), što je u najvećem dijelu objedinjeno u samom materijalu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7048440" y="3086280"/>
            <a:ext cx="4457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odaci se odnose i na obim objekata i opreme koja je u funkciji pružanja komunalnih usluga, broj preduzeća koja obavljaju komunalnu djelatnost, broju zaposlenih u komunalnim preduzećima, poslovanju komunalnih preduzeća sa analizom prihoda i rashoda itd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1293120" y="2171880"/>
            <a:ext cx="1841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Agenda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7020360" y="2171880"/>
            <a:ext cx="1626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Podaci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0" y="-27936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0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6146640" y="2209680"/>
            <a:ext cx="5918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Broj zaposlenih u komunalnim preduzećima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 čiji su osnivači jedinice lokalne samouprave, veći je od, u Agendi, prikazanih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2474640" y="2286000"/>
            <a:ext cx="2091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630,000 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8367480" y="327672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5.437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2" name="Picture 10" descr=""/>
          <p:cNvPicPr/>
          <p:nvPr/>
        </p:nvPicPr>
        <p:blipFill>
          <a:blip r:embed="rId3"/>
          <a:stretch/>
        </p:blipFill>
        <p:spPr>
          <a:xfrm>
            <a:off x="3479760" y="1181160"/>
            <a:ext cx="6019920" cy="59688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1"/>
          <p:cNvSpPr/>
          <p:nvPr/>
        </p:nvSpPr>
        <p:spPr>
          <a:xfrm>
            <a:off x="4417560" y="1270080"/>
            <a:ext cx="419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 NAČINI NJIHOVOG OBAVLJANJ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4" name="Rectangle 14"/>
          <p:cNvSpPr/>
          <p:nvPr/>
        </p:nvSpPr>
        <p:spPr>
          <a:xfrm>
            <a:off x="3153240" y="3759120"/>
            <a:ext cx="1608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eduzeć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osnovano od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jedinica lokaln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samouprav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3153240" y="5511960"/>
            <a:ext cx="1075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ivatnih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eduzeć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6" name="Rectangle 16"/>
          <p:cNvSpPr/>
          <p:nvPr/>
        </p:nvSpPr>
        <p:spPr>
          <a:xfrm>
            <a:off x="3140280" y="7302600"/>
            <a:ext cx="21283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Javnih preduzeća,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ivrednih subjekat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i drugih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7" name="Picture 17" descr=""/>
          <p:cNvPicPr/>
          <p:nvPr/>
        </p:nvPicPr>
        <p:blipFill>
          <a:blip r:embed="rId4"/>
          <a:stretch/>
        </p:blipFill>
        <p:spPr>
          <a:xfrm>
            <a:off x="1689120" y="2476440"/>
            <a:ext cx="622440" cy="8254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8"/>
          <p:cNvSpPr/>
          <p:nvPr/>
        </p:nvSpPr>
        <p:spPr>
          <a:xfrm>
            <a:off x="2771280" y="2933640"/>
            <a:ext cx="137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STANOV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8392680" y="6502320"/>
            <a:ext cx="1693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3,26%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0" name="Rectangle 21"/>
          <p:cNvSpPr/>
          <p:nvPr/>
        </p:nvSpPr>
        <p:spPr>
          <a:xfrm>
            <a:off x="6146640" y="4064040"/>
            <a:ext cx="591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i govori o ulozi i značaju ovog sektora u privredi Crne Gore.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1" name="Picture 22" descr=""/>
          <p:cNvPicPr/>
          <p:nvPr/>
        </p:nvPicPr>
        <p:blipFill>
          <a:blip r:embed="rId5"/>
          <a:stretch/>
        </p:blipFill>
        <p:spPr>
          <a:xfrm>
            <a:off x="6248520" y="5079960"/>
            <a:ext cx="5715000" cy="1144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3" descr=""/>
          <p:cNvPicPr/>
          <p:nvPr/>
        </p:nvPicPr>
        <p:blipFill>
          <a:blip r:embed="rId6"/>
          <a:stretch/>
        </p:blipFill>
        <p:spPr>
          <a:xfrm>
            <a:off x="1206360" y="6640560"/>
            <a:ext cx="4025880" cy="810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24"/>
          <p:cNvSpPr/>
          <p:nvPr/>
        </p:nvSpPr>
        <p:spPr>
          <a:xfrm>
            <a:off x="6146640" y="5397480"/>
            <a:ext cx="5918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odnosu na ukupan broj zaposlenih u Crnoj Gori,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sektoru komunalnih djelatnosti angažovano 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4" name="Rectangle 25"/>
          <p:cNvSpPr/>
          <p:nvPr/>
        </p:nvSpPr>
        <p:spPr>
          <a:xfrm>
            <a:off x="6146640" y="7353360"/>
            <a:ext cx="5918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(prema podacima Monstata samo u oblastima vodosnabdijevanja, upravljanja otpadnim vodama i otpadom zaposleno je 2,78% od ukupnog broja zaposlenih.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1425600" y="3797280"/>
            <a:ext cx="1224000" cy="1224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4400" spc="-1" strike="noStrike">
                <a:solidFill>
                  <a:srgbClr val="f2f2f2"/>
                </a:solidFill>
                <a:latin typeface="Gill Sans Light"/>
              </a:rPr>
              <a:t>52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1389240" y="5164200"/>
            <a:ext cx="1368360" cy="1368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600" spc="-1" strike="noStrike">
                <a:solidFill>
                  <a:srgbClr val="f2f2f2"/>
                </a:solidFill>
                <a:latin typeface="Gill Sans Light"/>
              </a:rPr>
              <a:t>36+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1246320" y="6821640"/>
            <a:ext cx="1584360" cy="1584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4000" spc="-1" strike="noStrike">
                <a:solidFill>
                  <a:srgbClr val="f2f2f2"/>
                </a:solidFill>
                <a:latin typeface="Gill Sans Light"/>
              </a:rPr>
              <a:t>88+</a:t>
            </a:r>
            <a:endParaRPr b="0" lang="en-US" sz="4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" descr=""/>
          <p:cNvPicPr/>
          <p:nvPr/>
        </p:nvPicPr>
        <p:blipFill>
          <a:blip r:embed="rId1"/>
          <a:stretch/>
        </p:blipFill>
        <p:spPr>
          <a:xfrm>
            <a:off x="0" y="2412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2"/>
          <p:cNvSpPr/>
          <p:nvPr/>
        </p:nvSpPr>
        <p:spPr>
          <a:xfrm>
            <a:off x="6654960" y="2171880"/>
            <a:ext cx="5765760" cy="659124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3" name="Picture 6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7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6896160" y="2400480"/>
            <a:ext cx="525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preduzećima koja se bave vodosnabdijevanjem i upravljanjem otpadnim vodama, u Crnoj Gori dolazi: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962280" y="2171880"/>
            <a:ext cx="4863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Struktura zaposlenih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7618320" y="363204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.000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8" name="Rectangle 11"/>
          <p:cNvSpPr/>
          <p:nvPr/>
        </p:nvSpPr>
        <p:spPr>
          <a:xfrm>
            <a:off x="1298520" y="7302600"/>
            <a:ext cx="414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Obavljaju osnovne djelatnosti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45.3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9" name="Picture 12" descr=""/>
          <p:cNvPicPr/>
          <p:nvPr/>
        </p:nvPicPr>
        <p:blipFill>
          <a:blip r:embed="rId3"/>
          <a:stretch/>
        </p:blipFill>
        <p:spPr>
          <a:xfrm>
            <a:off x="6978600" y="6380280"/>
            <a:ext cx="5118120" cy="1029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3" descr=""/>
          <p:cNvPicPr/>
          <p:nvPr/>
        </p:nvPicPr>
        <p:blipFill>
          <a:blip r:embed="rId4"/>
          <a:stretch/>
        </p:blipFill>
        <p:spPr>
          <a:xfrm>
            <a:off x="660240" y="730260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4" descr=""/>
          <p:cNvPicPr/>
          <p:nvPr/>
        </p:nvPicPr>
        <p:blipFill>
          <a:blip r:embed="rId5"/>
          <a:stretch/>
        </p:blipFill>
        <p:spPr>
          <a:xfrm>
            <a:off x="660240" y="62737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5" descr=""/>
          <p:cNvPicPr/>
          <p:nvPr/>
        </p:nvPicPr>
        <p:blipFill>
          <a:blip r:embed="rId6"/>
          <a:stretch/>
        </p:blipFill>
        <p:spPr>
          <a:xfrm>
            <a:off x="660240" y="7886880"/>
            <a:ext cx="419400" cy="4190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6"/>
          <p:cNvSpPr/>
          <p:nvPr/>
        </p:nvSpPr>
        <p:spPr>
          <a:xfrm>
            <a:off x="1297800" y="6159600"/>
            <a:ext cx="484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Upravljanje preduzećem i administrativno-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tehnički, finansijsko-računovodstveni,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avni, logistički i poslovi održavanja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50,7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Rectangle 17"/>
          <p:cNvSpPr/>
          <p:nvPr/>
        </p:nvSpPr>
        <p:spPr>
          <a:xfrm>
            <a:off x="1308240" y="7886880"/>
            <a:ext cx="254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Dodatni poslovi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3,5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45" name="Picture 18" descr=""/>
          <p:cNvPicPr/>
          <p:nvPr/>
        </p:nvPicPr>
        <p:blipFill>
          <a:blip r:embed="rId7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19"/>
          <p:cNvSpPr/>
          <p:nvPr/>
        </p:nvSpPr>
        <p:spPr>
          <a:xfrm>
            <a:off x="4783320" y="1270080"/>
            <a:ext cx="346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DJELATNOSTI ZAPOSLENIH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Rectangle 20"/>
          <p:cNvSpPr/>
          <p:nvPr/>
        </p:nvSpPr>
        <p:spPr>
          <a:xfrm>
            <a:off x="7877160" y="4356000"/>
            <a:ext cx="113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KORIS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9345240" y="3632040"/>
            <a:ext cx="366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"/>
                <a:ea typeface="Calibri"/>
              </a:rPr>
              <a:t>=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9916920" y="363204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0.28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10278000" y="4343400"/>
            <a:ext cx="9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RAD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51" name="Picture 24" descr=""/>
          <p:cNvPicPr/>
          <p:nvPr/>
        </p:nvPicPr>
        <p:blipFill>
          <a:blip r:embed="rId8"/>
          <a:stretch/>
        </p:blipFill>
        <p:spPr>
          <a:xfrm>
            <a:off x="2197080" y="331488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25"/>
          <p:cNvSpPr/>
          <p:nvPr/>
        </p:nvSpPr>
        <p:spPr>
          <a:xfrm>
            <a:off x="6896160" y="5003640"/>
            <a:ext cx="525780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adi poređenja, u Njemačkoj broj zaposlenih u vodovodnim i kanalizacionim preduzećima na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1000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 korisnika usluga iznosi oko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4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3" name="Rectangle 26"/>
          <p:cNvSpPr/>
          <p:nvPr/>
        </p:nvSpPr>
        <p:spPr>
          <a:xfrm>
            <a:off x="7567200" y="735336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.000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4" name="Rectangle 27"/>
          <p:cNvSpPr/>
          <p:nvPr/>
        </p:nvSpPr>
        <p:spPr>
          <a:xfrm>
            <a:off x="7826400" y="8077320"/>
            <a:ext cx="113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KORIS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Rectangle 28"/>
          <p:cNvSpPr/>
          <p:nvPr/>
        </p:nvSpPr>
        <p:spPr>
          <a:xfrm>
            <a:off x="9294480" y="7353360"/>
            <a:ext cx="366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"/>
                <a:ea typeface="Calibri"/>
              </a:rPr>
              <a:t>=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Rectangle 29"/>
          <p:cNvSpPr/>
          <p:nvPr/>
        </p:nvSpPr>
        <p:spPr>
          <a:xfrm>
            <a:off x="10050480" y="7353360"/>
            <a:ext cx="12178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9.93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10227240" y="8064360"/>
            <a:ext cx="9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RAD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6896160" y="679464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oblasti upravljanja otpadom dolazi: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2"/>
          <p:cNvSpPr/>
          <p:nvPr/>
        </p:nvSpPr>
        <p:spPr>
          <a:xfrm>
            <a:off x="2984400" y="7861320"/>
            <a:ext cx="7023240" cy="93996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64" name="Picture 6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7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444600" y="2235240"/>
            <a:ext cx="12128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nteresantno je ukazati da dužina vodovodne i kanalizacione mreže u Crnoj Gori iznosi oko 5200 km, što je dužina ukupne putne mreže u Crnoj Gori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rijednost vodovodne i kanalizacione mreže se procjenjuje na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67" name="Picture 9" descr=""/>
          <p:cNvPicPr/>
          <p:nvPr/>
        </p:nvPicPr>
        <p:blipFill>
          <a:blip r:embed="rId3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10"/>
          <p:cNvSpPr/>
          <p:nvPr/>
        </p:nvSpPr>
        <p:spPr>
          <a:xfrm>
            <a:off x="4673160" y="1270080"/>
            <a:ext cx="36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NFRASTRUKTURA I PRIHOD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3780360" y="7899480"/>
            <a:ext cx="5549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preko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</a:t>
            </a: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60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 miliona €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3359160" y="3848040"/>
            <a:ext cx="6273720" cy="93996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3304800" y="3886200"/>
            <a:ext cx="63493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najmanje </a:t>
            </a: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,5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milijardi €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444600" y="5778360"/>
            <a:ext cx="121284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kupan prihod na godišnjem nivou koji se ostvaruje po osnovu pruženih komunalnih usluga iznosi preko 100 miliona €. Ako se tome doda da prihod od naknade za komunalno opremanje građevinskog zemljišta iznosi 63 miliona €, u ovoj djelatnosti se godišnje pravi obrt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73" name="Picture 15" descr=""/>
          <p:cNvPicPr/>
          <p:nvPr/>
        </p:nvPicPr>
        <p:blipFill>
          <a:blip r:embed="rId4"/>
          <a:stretch/>
        </p:blipFill>
        <p:spPr>
          <a:xfrm>
            <a:off x="2603520" y="5295960"/>
            <a:ext cx="774684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1898640" y="3035160"/>
            <a:ext cx="91695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9"/>
                </a:solidFill>
                <a:latin typeface="Georgia"/>
                <a:ea typeface="Georgia"/>
              </a:rPr>
              <a:t>Postojeći način organizovanja poslova u komunalnoj oblasti i kvalitet pruženih usluga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40800"/>
                </a:solidFill>
                <a:latin typeface="Calibri Bold"/>
                <a:ea typeface="Calibri Bold"/>
              </a:rPr>
              <a:t>ne omogućavaju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9"/>
                </a:solidFill>
                <a:latin typeface="Georgia"/>
                <a:ea typeface="Georgia"/>
              </a:rPr>
              <a:t>implementaciju zakona relevantnih za ovu oblast, a koji su usaglašeni sa propisima Evropske unije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1" name="Picture 8" descr=""/>
          <p:cNvPicPr/>
          <p:nvPr/>
        </p:nvPicPr>
        <p:blipFill>
          <a:blip r:embed="rId3"/>
          <a:stretch/>
        </p:blipFill>
        <p:spPr>
          <a:xfrm>
            <a:off x="2476440" y="1168560"/>
            <a:ext cx="8051760" cy="59688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9"/>
          <p:cNvSpPr/>
          <p:nvPr/>
        </p:nvSpPr>
        <p:spPr>
          <a:xfrm>
            <a:off x="3228480" y="1270080"/>
            <a:ext cx="657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OBAVEZE CRNE GORE U POSTUPKU PRISTUPANJA EU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44600" y="2235240"/>
            <a:ext cx="121284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Glavni cilj reforme sektora komunalnih djelatnosti u Crnoj Gori je uspostavljanje sistema organizovanja poslova u oblasti komunalnih djelatnosti na način kojim se obezbjeđuje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efikasn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rživ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i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kvalitetn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obavljanje komunalnih djelatnosti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0" name="Picture 8" descr=""/>
          <p:cNvPicPr/>
          <p:nvPr/>
        </p:nvPicPr>
        <p:blipFill>
          <a:blip r:embed="rId3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9"/>
          <p:cNvSpPr/>
          <p:nvPr/>
        </p:nvSpPr>
        <p:spPr>
          <a:xfrm>
            <a:off x="5575320" y="1270080"/>
            <a:ext cx="18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CILJ REFORM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2" name="Picture 10" descr=""/>
          <p:cNvPicPr/>
          <p:nvPr/>
        </p:nvPicPr>
        <p:blipFill>
          <a:blip r:embed="rId4"/>
          <a:stretch/>
        </p:blipFill>
        <p:spPr>
          <a:xfrm>
            <a:off x="2603520" y="4076640"/>
            <a:ext cx="7746840" cy="1144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11"/>
          <p:cNvSpPr/>
          <p:nvPr/>
        </p:nvSpPr>
        <p:spPr>
          <a:xfrm>
            <a:off x="444600" y="4711680"/>
            <a:ext cx="121284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stvarenjem ovog cilja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ajveće benfite imaće korisnici usluga u oblasti komunalnih djelatnosti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odnosno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građani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ravna i fizička lica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i to, kako kroz očuvanje životne sredine i zdravlja ljudi, tako i kroz stvaranja povoljnog ambijenta za obnovu i ekonomski razvoj Crne Gore. Takođe, država Crna Gora imaće koristi, jer se kroz adekvatan sistem komunalnih djelatnosti (prije svega u oblasti vodosnabdijevanja i upravljanja otpadnim vodama i otpadom) obezbjeđuje ispunjenje obaveza koje Crna Gora ima u procesu evropskih integracija, kroz poštovanje relevantnih EU propisa i standarda u navedenim i oblastima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1994040" y="2540160"/>
            <a:ext cx="94867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potpunog pokrivanja troško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isok procenat obavljenih usluga koje ne donose prihod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voljno visoka cijena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iska stopa naplat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legalni priključc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išak zaposlenih u komunalnim preduzeć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postojanje regulatornih mehaniza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finansijskih sredsta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govornost u dijelu upravljanja vlasništva nad sredstv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volje za ukrupnjavanjem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01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9"/>
          <p:cNvSpPr/>
          <p:nvPr/>
        </p:nvSpPr>
        <p:spPr>
          <a:xfrm>
            <a:off x="5083200" y="1282680"/>
            <a:ext cx="283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SITUACIJA U SEKTORU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los Sreckovic</cp:lastModifiedBy>
  <dcterms:modified xsi:type="dcterms:W3CDTF">2013-12-05T11:04:45Z</dcterms:modified>
  <cp:revision>5</cp:revision>
  <dc:subject/>
  <dc:title>Agenda reformi u komunalnoj oblasti</dc:title>
</cp:coreProperties>
</file>