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B2F-81FA-4D0E-9E84-7B08C355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ED5-0D9A-4123-BF3A-48DF9145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3AE-37CE-48F6-A36C-3CEB872A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934-ACED-4AD6-A2FF-4224E4F8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066-FFF1-4398-B615-3F1A5AF0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2C5-E70D-4D60-A7DB-81F7DE2C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026-464C-4701-B52E-4FCC8C9F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DB8-C6BC-4923-9B12-312450D8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FF4-E5EB-489E-8341-41F7D68F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944-864A-40E3-8DA3-673A7F7D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DC8-78A4-4D38-AAFA-8B9D6D87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8A2-92A7-40C3-A7C9-609A54E0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FE495-CE2F-4796-B736-B36E4572A4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0F790-1470-4506-B631-3FA617D60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65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4400" spc="-1" strike="noStrike">
                <a:solidFill>
                  <a:srgbClr val="800000"/>
                </a:solidFill>
                <a:latin typeface="Calibri"/>
              </a:rPr>
              <a:t>Strategija razvoja šuma i šumarstv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068720" y="396720"/>
            <a:ext cx="901800" cy="1028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838080" y="1395360"/>
            <a:ext cx="777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Ministarstvo poljoprivrede i ruralnog razvo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rafikon 22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Dva </a:t>
            </a: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scenarija projekcije buduće sječ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Stepen ispunjenja ugovora 201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Grafikon 5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15696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Disperzija preduzeća u preradi drv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on 2" descr="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8400" y="191880"/>
            <a:ext cx="334332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800000"/>
                </a:solidFill>
                <a:latin typeface="Calibri"/>
              </a:rPr>
              <a:t>Prostorni raspored preduzeć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Slika 8" descr="Mapa preduzeca u CG"/>
          <p:cNvPicPr/>
          <p:nvPr/>
        </p:nvPicPr>
        <p:blipFill>
          <a:blip r:embed="rId1"/>
          <a:stretch/>
        </p:blipFill>
        <p:spPr>
          <a:xfrm>
            <a:off x="3502080" y="0"/>
            <a:ext cx="58100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0" y="2181240"/>
            <a:ext cx="366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strukturi preduzeća koja se bave preradom drveta dominantna je zastupljenost malih preduzeć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stoji šest velikih preduzeća koja su u 2011. godini preradila 97.380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tehničke oblovine, što je predstavljalo 29,8% od ukupne količine tehničke oblovine koja je prerađena u Crnoj Gor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Održivo gazdovanje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 šum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diti šume u smislu proizvodnje drvne mase i  nedrvnih proizvoda, ispunjavanja funkcija  i ekosistemskih uslug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drvne zalihe u u državnim šumama akumulacijom 30% godišnjeg prirasta povećanje prosječne drvne zalihe sa 225 na 240 m3/ha i u privatnim šumama akumulacijom 50% godišnjeg prirasta sa 88 na 100 m3/h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produktivnost, stabilnost i otpornosti šuma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dsticanje pošumljavanja, popunjavanja i njege izdanačkih šu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bezbjeđivanje kvalitetnog autohtonog sjemena i sadnica drveć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Razvoj drvne industrije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učešća drvne industrije  u BDP prerađivačke industrije sa postojećih 5,3% (2010.) na 10% do 2020. godine kroz povećanje bruto dodate vrijednosti sa 10,2 miliona € (2010.) na 25 miliona € u 202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stepena finalizacije polazne sirovine prelaskom na koncept proizvodnje inženjerskih proizvoda od masivnog drveta sa odnosom valorizacije polazne sirovine 1:4-5 u vrijednosnom smisl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manjenje izvoza drvne sirovine u obliku trupaca, rezane građe i drugih proizvoda od drveta niskog stepena finaliizacije i njihova potrošnja u Crnoj Gori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Calibri"/>
              </a:rPr>
              <a:t>Uloga šumarstva u ruralnom razvoj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broja radnih mjesta u šumarstvu i drvnoj industri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prihoda ruralnih domaćinstav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Jačanje uloge i učešća lokalnog stanovništva u zajedničkim programima ruralnog razvoja uz podršku Uprave za šume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boljšanje infrastrukture u ruralnom području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iversifikacija ekonomskih aktivnosti u ruralnim područjima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mala preduzeća šumarstva i drvne industrije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turizam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ivo upravljanje i korišćenje nedrvnih šumskih proizvod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Zaštita biodiverzit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ev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avanje dobrog stanja šumskih staniš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nje otpornost šuma na uticaje klimatskih promjen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valorizacija ekosistemskih usluga šu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tegracija zahtjeva Nature 2000 u planove gazdovanja šuma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ekosistemski pristup gazdovanju šumama i zaštiti priro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graničenje pašnjaka i šuma, registracija i regulacija prava korišćenj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upravljanja šumama u nacionalnim parkovim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Zaštita od poža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Cilj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blasti zaštite od požara i prilagođavanja na klimatske promjene je smanjenje novih opožarenih površina i uništene biomase za 70%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Mjer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državanje otvorenih površina između šuma i podrška za kosidbu livad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organizovanosti institucija za borbu protiv šumskih poža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nvesticije u opremu i preventivne mjere za borbu protiv požar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ljučivanje stanovništva u preventivu i borbu protiv požar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voj i testiranje metoda sanacije opožarenih površi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mjena iskustava i saradnja sa institucijama iz regio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Uloga Uprave za šu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prava za šume ne obavlja sve funkcije predviđene Zakonom o šumam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narednom periodu potrebno j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iješiti pitanje savjetodavne službe u šumarstv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efikasnost sistem doznake stabala za sječ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viti participativno planiranj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ljučiti se u međunarodne projekte i mrež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iješiti pitanje upravljanja Natura 2000 područji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spostaviti šumarsko-informacioni sistem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spostaviti jedinicu za projektovanje i nadzor izgradnje šumskih puteva i drugih saobraćajnic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iznaći optimalni model organizacije i finansiran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Ciljevi strategije i viz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Strategija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ima dva opšta cilja koji se odnose na šume kao ekosistem i prirodni resurs i na ekonomski sektor šumarstva i drvne industri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naprijeđenje šuma i održivost gazdovanja povećanjem drvne zalihe u šumama na raspolaganju za korišćenje sa 104 na 115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bruto drvne mas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ti BDP sektora šumarstva, drvne industrije i drugih djelatnosti koje zavise od šuma sa 2% na 4% ukupnog BD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Vizija 202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Šumama se gazduje multifunkcionalno po najsavremenijim standardima. Povećan je udio šumarstva i drvne industrije u BDP. Povećano je zapošljavanja u seoskim područjim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stignut je visok stepen finalizacije drvnih proizvoda preko razvoja i povezivanja preduzeća u lancu dodatne vrijednosti. CG je izvoznik kvalitetnih drvnih proizvod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Kadrovi u drvnoj industri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oj industriji nedostaju kvalifikovani stručnjaci (drvoprerada, finalizacija proizvoda, dizajn, prodaja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preduzećima drvne industrije u Crnoj Gori radi 22 inženjera (14 inženjera drvne industrije, ostali su inženjeri šumarstva, mašinstva itd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ajveći broj vlasnika postojećih privatnih preduzeća je bez stručnog obrazovanj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kviru Mašinskog fakulteta u Pljevljima otvoren je smjer prerade drveta, ali polaznici tog smjera imaju vrlo male šanse za posao u drvnoj industriji kakva je dan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ugoročno je potrebno pripremiti program stručnog obrazovanja i razvoja kadrova u šumarstvu i drvnoj industrij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pripremu programa treba uključiti: Ministarstvo poljoprivrede i ruralnog razvoja, Ministarstvo ekonomije, Upravu za šume, Upravu za kadrove, srednju i visoke škole, i univerzite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rafikon 19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590840" y="63648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Ekonomske koristi od šu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Prostorni raspored šuma u Crnoj Go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cionalna inventura šuma sprovedena je 2010. godin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Šume čine 60% teritorije CG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eobrasla šumska zemljišta dodatnih 9,7%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drvna zaliha iznosi 133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e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104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nalazi se u šumama koje se mogu koristit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i godišnji prirast u svim šumama iznosi 3,2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lika 3" descr=""/>
          <p:cNvPicPr/>
          <p:nvPr/>
        </p:nvPicPr>
        <p:blipFill>
          <a:blip r:embed="rId1"/>
          <a:stretch/>
        </p:blipFill>
        <p:spPr>
          <a:xfrm>
            <a:off x="4446720" y="-144360"/>
            <a:ext cx="46972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Prostorni raspored šuma u Crnoj Go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dsjetiću da je to značajno više od dosadašnjih statističkih podatak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Nacionalnoj šumarskoj politici iz 2008, na osnovu tadašnjih podataka, procijenjeno je da šume zauzimaju 45% teritorije C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a zaliha procijenjena je na 72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irast na 1,6 miliona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ršina pod šumama povećava se zbog napuštanja tradicionalne poljoprivrede i pošumljavanj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Slika 3" descr=""/>
          <p:cNvPicPr/>
          <p:nvPr/>
        </p:nvPicPr>
        <p:blipFill>
          <a:blip r:embed="rId1"/>
          <a:stretch/>
        </p:blipFill>
        <p:spPr>
          <a:xfrm>
            <a:off x="4446720" y="-144360"/>
            <a:ext cx="46972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Kategorije šu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1599840"/>
            <a:ext cx="4584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pseg površina pod šumom je zadovoljavajuć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eđutim, kvaliteta šume nije i postoji prostor za unaprjeđen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liha i prirast u većini šuma su ispod potencijala staniš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 novonastale šume bitan cilj je postići zapreminu i produktivnos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šumljavanja mora biti pažljivije planirano i uvezano sa potrebama drvoprerađivačke industri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itanje finansiranja pošumljavanj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lika 5" descr=""/>
          <p:cNvPicPr/>
          <p:nvPr/>
        </p:nvPicPr>
        <p:blipFill>
          <a:blip r:embed="rId1"/>
          <a:stretch/>
        </p:blipFill>
        <p:spPr>
          <a:xfrm>
            <a:off x="4446720" y="0"/>
            <a:ext cx="466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Zapremina i godišnji prirast po 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Slika 8" descr=""/>
          <p:cNvPicPr/>
          <p:nvPr/>
        </p:nvPicPr>
        <p:blipFill>
          <a:blip r:embed="rId1"/>
          <a:srcRect l="2757" t="0" r="0" b="0"/>
          <a:stretch/>
        </p:blipFill>
        <p:spPr>
          <a:xfrm>
            <a:off x="5018040" y="804960"/>
            <a:ext cx="3846600" cy="6053040"/>
          </a:xfrm>
          <a:prstGeom prst="rect">
            <a:avLst/>
          </a:prstGeom>
          <a:ln w="0">
            <a:noFill/>
          </a:ln>
        </p:spPr>
      </p:pic>
      <p:pic>
        <p:nvPicPr>
          <p:cNvPr id="57" name="Slika 7" descr=""/>
          <p:cNvPicPr/>
          <p:nvPr/>
        </p:nvPicPr>
        <p:blipFill>
          <a:blip r:embed="rId2"/>
          <a:srcRect l="0" t="0" r="2028" b="0"/>
          <a:stretch/>
        </p:blipFill>
        <p:spPr>
          <a:xfrm>
            <a:off x="368280" y="804960"/>
            <a:ext cx="407844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5520" y="274320"/>
            <a:ext cx="42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Vlasništvo nad šum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599840"/>
            <a:ext cx="47181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o 5 hektara - 57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6-20 hektara - 27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21-50 hektara - 13% privatnih posj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2/3 vlasnika šuma koristi šumu za sopstvene potrebe (ogrijevno drv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žavnim šumama upravlja Uprava za šume, a na području nacionalnih parkova - JP NP Crne Go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zgraničenje privatnog i državnog vlasništva i unutar privatnog vlasništva nije završeno na velikim površinam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načajan dio privatnih šuma nije dovoljno otvoren šumskim putevim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oblem gazdovanja u privatnim šumama (konfliktn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situacij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Slika 5" descr=""/>
          <p:cNvPicPr/>
          <p:nvPr/>
        </p:nvPicPr>
        <p:blipFill>
          <a:blip r:embed="rId1"/>
          <a:stretch/>
        </p:blipFill>
        <p:spPr>
          <a:xfrm>
            <a:off x="4446720" y="0"/>
            <a:ext cx="466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Potrošnja drv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potrošnja drveta i drvnog ostatka iz šuma u Crnoj Gori za energetske, industrijske i tehničke potrebe iznosila je 1.059.81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potrošnja ogrijevnog drveta 2011. iznosila je 732.91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kupna količina industrijske i tehničke oblovine prerađena u preduzećima za drvopreradu u 2011. iznosila je 326.649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rvnog ostatka iz šume, voćnjaka 251 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damo li količinu drveta koja je otišla u izvoz (70.683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industrijske oblovine i 8.693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ogrijevnog drveta) to znači da je ukupna proizvodnja (sječa) drveta iznosila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1.138.936 m</a:t>
            </a:r>
            <a:r>
              <a:rPr b="1" lang="hr-HR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neto drvne mas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ONSTAT je 2012. izradio studiju „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Potrošnja drvnih goriva u 2011. godini u Crnoj Gor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“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Godišnji zapreminski prirast u šumama je 2,6 miliona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IŠ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800000"/>
                </a:solidFill>
                <a:latin typeface="Calibri"/>
              </a:rPr>
              <a:t>Bespravna sječ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okviru NIŠ 2010. godine napravljen je popis panjeva posječenih stabala u pet godina prije sprovođenja inventure (2005-1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popisu, količina posječenog drveta je konzistentna sa podacima MONSTAT o potrošnji drve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bim sječe nedoznačenih stabala se smanjuje, a doznačenih povećav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naliza posječenih stabala ukazuje da se velika većina sječe bez doznake (80 % stabala i 40 % drvne mase) vrši na stablima tanjim od 25 c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velikoj mjeri se radi o neprijavljenim sječama za ogrijevno drvo u vlastitim šumama privatnih vlasnik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rema Izveštaju o napretku realizacije NAP-a koji je urađen 2012. godine ostvaren je napredak na području suzbijanja bespravnih sječ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Povećao se nivo svijesti o problem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08:27:06Z</dcterms:created>
  <dc:creator>Petar Ivanovic</dc:creator>
  <dc:description/>
  <dc:language>en-US</dc:language>
  <cp:lastModifiedBy>Petar Ivanovic</cp:lastModifiedBy>
  <cp:lastPrinted>2014-04-03T10:01:26Z</cp:lastPrinted>
  <dcterms:modified xsi:type="dcterms:W3CDTF">2014-04-03T11:27:11Z</dcterms:modified>
  <cp:revision>31</cp:revision>
  <dc:subject/>
  <dc:title>Strategija razvoja šuma i šumarstva </dc:title>
</cp:coreProperties>
</file>