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kj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kcija javnih radova                                              Vlada Crne Go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AE53-241C-428C-A6F6-F4D455482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kcija javnih radova                                              Vlada Crne Go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kj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50C-588F-4A1D-A201-C3554CDC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74B-82C6-44B9-AE35-8ED8A7C8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D72-2FDF-4710-9B47-43619841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1E6-0176-4537-ABB1-F5B1FF01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CA6D-660A-4B6A-B622-E08EBC4A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C0CD-AB7A-4074-AA28-62374ED9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51A9-4738-47AF-B0E4-7565DD1B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E7D1-B84D-401F-895E-2A52370E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CD52-F493-4E41-A07F-433DC1D6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374B-35B7-4068-8C79-05567B81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F430-7A61-499B-BD03-28221AC9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38C-E5F4-43FA-AC50-9F970A29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B7C1-641B-4D22-9ED4-4DE6D70E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9DF0-C758-4DC5-BAF1-B973FB75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9154-892B-4BA1-99CD-9AD02A89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9E9B-0A8F-42D8-8BA9-3BC54AC8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732F-C88C-4A49-A730-0575F48F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C87B-8731-48AB-8499-D86335B8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E071-8F0B-43F8-A639-BCA9B511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E995-728B-4C55-A97D-57D25226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FEC00-9113-458B-BB7E-782BE881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F393-ECE6-4391-A6DE-E0314A9C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58A-364A-4C35-BB60-9B61C890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7064-DEE0-434F-8487-8A2849D2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A160-708A-4940-8BF0-46A56A39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9650-8C55-4FCB-A320-D65FF26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2A78-3C4E-4F50-9D12-FD04B675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BCC4-24FC-4909-94C3-36F8DD0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AF08-26E9-4CF0-AD12-78DF90AA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20C4-2ED6-4449-B364-40C6EAE6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44809-6A97-4982-98D2-FBC0F7B8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3912-4BB4-4A46-A2A9-775B2DA7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F1252-CA66-4D9B-9C36-03963F5E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284-A245-47FA-A76F-E69B7BDD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A075-03B8-4CF0-988A-A4516BF6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48775-314C-4096-9D1F-2355DA40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82D7A-D977-457D-A2A7-7DE782B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942B-7936-4A61-93F0-CC3255A8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6704-2E5E-4599-8801-4F77BE99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078B-A0DE-4502-AF51-155FC0C0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98D61-4AFB-47AA-8A2B-701884BF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5534-587F-4799-BC28-ACEFCD5C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220B5-4647-483E-BAD1-3935499F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97B74-733D-46F3-AFD7-E4FC6535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E17-2C36-4330-A454-4BE80B46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7662B-3EDE-4B8B-B7B4-6D7BA6DF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E8D9-D559-4E04-9E07-D5348DAC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18535-1DAC-4058-8ABE-20D5363F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2F10E-AE94-4BEE-B0B7-F2F72198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5129-8DA9-41BE-A231-F0A8A179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3EEBE-BEB1-475C-83A7-173F99D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857A5-1797-40E0-B9BA-152A613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C8FFB-63DF-4AF7-85D7-20A426C8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37F99-26F1-45D8-9AF7-7F589353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75D1A-41DE-4368-B967-2C0D898F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D59-323B-48C8-AFB9-1B3C11CE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5364C-9761-4983-91E6-61DCACF9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2B2-85A4-4937-B188-C47013B3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0BE-53F2-4DC3-87D9-EDF67F6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524-FDC4-408E-AA70-BBAFEA52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7EB3-C911-4175-94B2-318EE3ABBF6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BB0E-EB2F-4380-BB57-BDF36FF9C0F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B95E-0F70-4227-BCD0-ECA69C1237D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80D0-CE35-485D-B476-6DDC273AB8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4F21-72CA-4725-BD40-83FD6EA81CB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5520" y="704880"/>
            <a:ext cx="7900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VLADA CRNE GORE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     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DIREKCIJA JAVNIH RADOVA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Date Placeholder 20"/>
          <p:cNvSpPr/>
          <p:nvPr/>
        </p:nvSpPr>
        <p:spPr>
          <a:xfrm>
            <a:off x="428760" y="6072120"/>
            <a:ext cx="82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1f497d"/>
                </a:solidFill>
                <a:latin typeface="Perpetua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285840" y="214200"/>
            <a:ext cx="873000" cy="100800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18" descr=""/>
          <p:cNvPicPr/>
          <p:nvPr/>
        </p:nvPicPr>
        <p:blipFill>
          <a:blip r:embed="rId2"/>
          <a:stretch/>
        </p:blipFill>
        <p:spPr>
          <a:xfrm>
            <a:off x="963720" y="2352600"/>
            <a:ext cx="723564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50920" y="2491920"/>
            <a:ext cx="50007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anacija alternativnog puta Piperi – Lugovi u dužini od 8,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(djelimično proširenje i nasipanje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2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13" descr="C:\Users\user\Desktop\Bukovica 2011\Bukovica foto 2010\22.04\P4225781.JPG"/>
          <p:cNvPicPr/>
          <p:nvPr/>
        </p:nvPicPr>
        <p:blipFill>
          <a:blip r:embed="rId2"/>
          <a:stretch/>
        </p:blipFill>
        <p:spPr>
          <a:xfrm>
            <a:off x="500040" y="1000080"/>
            <a:ext cx="3357720" cy="2481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C:\Users\user\Desktop\Bukovica 2011\Bukovica foto 2010\22.04\P4225784.JPG"/>
          <p:cNvPicPr/>
          <p:nvPr/>
        </p:nvPicPr>
        <p:blipFill>
          <a:blip r:embed="rId3"/>
          <a:stretch/>
        </p:blipFill>
        <p:spPr>
          <a:xfrm>
            <a:off x="500040" y="3571920"/>
            <a:ext cx="335772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50920" y="1699920"/>
            <a:ext cx="5041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asipanje puteva: Kovačevići – Debelo Brdo – Granica u dužini od 10,5 km, Kovačevići – Planjsko u dužini od 11 km i Kovačevići – Srečanje u dužini od 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Izrada elaborata za sanaciju klizišta na putu Piperi–Lugovi –Kovačevići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9. godini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Vlada Crne Gore preko Direkcije javnih radov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za putnu infrastrukturu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ložila </a:t>
            </a:r>
            <a:r>
              <a:rPr b="1" lang="en-US" sz="2000" spc="-1" strike="noStrike">
                <a:solidFill>
                  <a:srgbClr val="000000"/>
                </a:solidFill>
                <a:latin typeface="Blue Highway"/>
              </a:rPr>
              <a:t>49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Rectangle 4"/>
          <p:cNvSpPr/>
          <p:nvPr/>
        </p:nvSpPr>
        <p:spPr>
          <a:xfrm flipH="1">
            <a:off x="570960" y="28584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1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4" name="Picture 12" descr="C:\Users\user\Desktop\Bukovica 2011\Bukovica foto 2010\Bukovica, 2009\28.10\PA273460.JPG"/>
          <p:cNvPicPr/>
          <p:nvPr/>
        </p:nvPicPr>
        <p:blipFill>
          <a:blip r:embed="rId2"/>
          <a:stretch/>
        </p:blipFill>
        <p:spPr>
          <a:xfrm>
            <a:off x="714240" y="1214280"/>
            <a:ext cx="3143520" cy="2214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user\Desktop\Bukovica 2011\Bukovica foto 2010\Bukovica, 2009\28.10\PA273459.JPG"/>
          <p:cNvPicPr/>
          <p:nvPr/>
        </p:nvPicPr>
        <p:blipFill>
          <a:blip r:embed="rId3"/>
          <a:stretch/>
        </p:blipFill>
        <p:spPr>
          <a:xfrm>
            <a:off x="714240" y="3571920"/>
            <a:ext cx="3143520" cy="235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29040" y="1000080"/>
            <a:ext cx="45720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govorena izgradnja montažnih individualnih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tambenih i pomoćnih objekat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za povratak 12 porod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očela izgradnja 12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Rectangle 4"/>
          <p:cNvSpPr/>
          <p:nvPr/>
        </p:nvSpPr>
        <p:spPr>
          <a:xfrm flipH="1">
            <a:off x="114372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5000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Picture 2" descr="C:\Users\user\Desktop\Bukovica 2011\Bukovica foto 2010\Bukovica, 2009\03.11\Bukovica 1, 03.11.jpg"/>
          <p:cNvPicPr/>
          <p:nvPr/>
        </p:nvPicPr>
        <p:blipFill>
          <a:blip r:embed="rId2"/>
          <a:stretch/>
        </p:blipFill>
        <p:spPr>
          <a:xfrm>
            <a:off x="571680" y="1071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C:\Users\user\Desktop\Bukovica 2011\Bukovica foto 2010\Bukovica, 2009\03.11\Bukovica 4, 03.11.jpg"/>
          <p:cNvPicPr/>
          <p:nvPr/>
        </p:nvPicPr>
        <p:blipFill>
          <a:blip r:embed="rId3"/>
          <a:stretch/>
        </p:blipFill>
        <p:spPr>
          <a:xfrm>
            <a:off x="571680" y="3571920"/>
            <a:ext cx="3143160" cy="2509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C:\Users\user\Desktop\Bukovica 2011\Bukovica foto 2010\Bukovica, 2009\03.11\PB033690.JPG"/>
          <p:cNvPicPr/>
          <p:nvPr/>
        </p:nvPicPr>
        <p:blipFill>
          <a:blip r:embed="rId4"/>
          <a:stretch/>
        </p:blipFill>
        <p:spPr>
          <a:xfrm>
            <a:off x="4643280" y="3571920"/>
            <a:ext cx="328644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14480" y="2000160"/>
            <a:ext cx="50720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09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izgradnju objekat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ložil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258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Rectangle 4"/>
          <p:cNvSpPr/>
          <p:nvPr/>
        </p:nvSpPr>
        <p:spPr>
          <a:xfrm flipH="1">
            <a:off x="114372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5000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3" name="Picture 3" descr="C:\Users\user\Desktop\Bukovica 2011\Bukovica foto 2010\Bukovica, 2009\13.11\PB133774.JPG"/>
          <p:cNvPicPr/>
          <p:nvPr/>
        </p:nvPicPr>
        <p:blipFill>
          <a:blip r:embed="rId2"/>
          <a:stretch/>
        </p:blipFill>
        <p:spPr>
          <a:xfrm>
            <a:off x="571680" y="3500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user\Desktop\Bukovica 2011\Bukovica foto 2010\Bukovica, 2009\13.11\PB133779.JPG"/>
          <p:cNvPicPr/>
          <p:nvPr/>
        </p:nvPicPr>
        <p:blipFill>
          <a:blip r:embed="rId3"/>
          <a:stretch/>
        </p:blipFill>
        <p:spPr>
          <a:xfrm>
            <a:off x="571680" y="1071720"/>
            <a:ext cx="292860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142880" y="1857240"/>
            <a:ext cx="4714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ipanje lokalnog puta Kovačevići – Planjsko – Moćevići u dužini od 3 km (nastavak radov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Završena izrada projekta sanacije klizišta na putnom pravcu Piperi – Lugovi –  Kovačevići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Rectangle 4"/>
          <p:cNvSpPr/>
          <p:nvPr/>
        </p:nvSpPr>
        <p:spPr>
          <a:xfrm flipH="1">
            <a:off x="785880" y="28584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6429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2" name="Picture 16" descr="C:\Users\user\Desktop\Bukovica 2011\Bukovica foto 2010\22.04\P4225782.JPG"/>
          <p:cNvPicPr/>
          <p:nvPr/>
        </p:nvPicPr>
        <p:blipFill>
          <a:blip r:embed="rId2"/>
          <a:stretch/>
        </p:blipFill>
        <p:spPr>
          <a:xfrm>
            <a:off x="785880" y="357192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Users\user\Desktop\Bukovica 2011\Bukovica foto 2010\22.04\P4225786.JPG"/>
          <p:cNvPicPr/>
          <p:nvPr/>
        </p:nvPicPr>
        <p:blipFill>
          <a:blip r:embed="rId3"/>
          <a:stretch/>
        </p:blipFill>
        <p:spPr>
          <a:xfrm>
            <a:off x="785880" y="114300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071600" y="1714320"/>
            <a:ext cx="47149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248040" indent="-20772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498240" indent="-20772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robijeno i nasuto 4 km puteva do izgrađenih individualnih stambe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498240" indent="-20772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10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putnu infrastrukturu ulo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žila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01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Rectangle 4"/>
          <p:cNvSpPr/>
          <p:nvPr/>
        </p:nvSpPr>
        <p:spPr>
          <a:xfrm flipH="1">
            <a:off x="713520" y="28584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8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6429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1" name="Picture 18" descr="C:\Users\user\Desktop\Bukovica 2011\Bukovica foto 2010\21.09\P9177808.JPG"/>
          <p:cNvPicPr/>
          <p:nvPr/>
        </p:nvPicPr>
        <p:blipFill>
          <a:blip r:embed="rId2"/>
          <a:stretch/>
        </p:blipFill>
        <p:spPr>
          <a:xfrm>
            <a:off x="857160" y="3606840"/>
            <a:ext cx="3000600" cy="2322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9" descr="C:\Users\user\Desktop\Bukovica 2011\Bukovica foto 2010\21.07\P7217055.JPG"/>
          <p:cNvPicPr/>
          <p:nvPr/>
        </p:nvPicPr>
        <p:blipFill>
          <a:blip r:embed="rId3"/>
          <a:stretch/>
        </p:blipFill>
        <p:spPr>
          <a:xfrm>
            <a:off x="857160" y="1214280"/>
            <a:ext cx="3024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780000" y="1267920"/>
            <a:ext cx="49291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70000" indent="-22608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tavljeni i završeni radovi na objektima ugovorenim u 2009. g.Vrijednost izvedenih radov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94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govorena izgradnja novih montažnih individualnih stambenih i pomoćnih objekata za povratak 20 porod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vi radovi na izgradnji novih objekata završeni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Rectangle 4"/>
          <p:cNvSpPr/>
          <p:nvPr/>
        </p:nvSpPr>
        <p:spPr>
          <a:xfrm flipH="1">
            <a:off x="928080" y="35712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571680" y="1071720"/>
            <a:ext cx="774036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0" name="Picture 7" descr="P7206977.JPG"/>
          <p:cNvPicPr/>
          <p:nvPr/>
        </p:nvPicPr>
        <p:blipFill>
          <a:blip r:embed="rId2"/>
          <a:stretch/>
        </p:blipFill>
        <p:spPr>
          <a:xfrm>
            <a:off x="1000080" y="1428840"/>
            <a:ext cx="2714760" cy="2071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P7206928.JPG"/>
          <p:cNvPicPr/>
          <p:nvPr/>
        </p:nvPicPr>
        <p:blipFill>
          <a:blip r:embed="rId3"/>
          <a:stretch/>
        </p:blipFill>
        <p:spPr>
          <a:xfrm>
            <a:off x="1000080" y="3714840"/>
            <a:ext cx="271476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571920" y="1428840"/>
            <a:ext cx="521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261720" indent="-21924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25600" indent="-219240">
              <a:lnSpc>
                <a:spcPct val="8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10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adov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za izgradnju objekat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ložil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25600" indent="-219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000000"/>
                </a:solidFill>
                <a:latin typeface="Blue Highway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659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71424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9" name="Picture 9" descr="Picture20.jpg"/>
          <p:cNvPicPr/>
          <p:nvPr/>
        </p:nvPicPr>
        <p:blipFill>
          <a:blip r:embed="rId2"/>
          <a:stretch/>
        </p:blipFill>
        <p:spPr>
          <a:xfrm>
            <a:off x="928800" y="1143000"/>
            <a:ext cx="2571480" cy="2427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P7206952.JPG"/>
          <p:cNvPicPr/>
          <p:nvPr/>
        </p:nvPicPr>
        <p:blipFill>
          <a:blip r:embed="rId3"/>
          <a:stretch/>
        </p:blipFill>
        <p:spPr>
          <a:xfrm>
            <a:off x="928800" y="3727440"/>
            <a:ext cx="2571480" cy="23446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PA228144.JPG"/>
          <p:cNvPicPr/>
          <p:nvPr/>
        </p:nvPicPr>
        <p:blipFill>
          <a:blip r:embed="rId4"/>
          <a:stretch/>
        </p:blipFill>
        <p:spPr>
          <a:xfrm>
            <a:off x="4429080" y="3714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Date Placeholder 6"/>
          <p:cNvSpPr/>
          <p:nvPr/>
        </p:nvSpPr>
        <p:spPr>
          <a:xfrm>
            <a:off x="500040" y="6215040"/>
            <a:ext cx="7972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1f497d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71424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8" name="Picture 8" descr="PA228147.JPG"/>
          <p:cNvPicPr/>
          <p:nvPr/>
        </p:nvPicPr>
        <p:blipFill>
          <a:blip r:embed="rId2"/>
          <a:stretch/>
        </p:blipFill>
        <p:spPr>
          <a:xfrm>
            <a:off x="4572000" y="1143000"/>
            <a:ext cx="3571920" cy="2444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7026683.JPG"/>
          <p:cNvPicPr/>
          <p:nvPr/>
        </p:nvPicPr>
        <p:blipFill>
          <a:blip r:embed="rId3"/>
          <a:stretch/>
        </p:blipFill>
        <p:spPr>
          <a:xfrm>
            <a:off x="1071720" y="1143000"/>
            <a:ext cx="3214440" cy="2428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P1010145.JPG"/>
          <p:cNvPicPr/>
          <p:nvPr/>
        </p:nvPicPr>
        <p:blipFill>
          <a:blip r:embed="rId4"/>
          <a:stretch/>
        </p:blipFill>
        <p:spPr>
          <a:xfrm>
            <a:off x="1071720" y="371484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P7206977.JPG"/>
          <p:cNvPicPr/>
          <p:nvPr/>
        </p:nvPicPr>
        <p:blipFill>
          <a:blip r:embed="rId5"/>
          <a:stretch/>
        </p:blipFill>
        <p:spPr>
          <a:xfrm>
            <a:off x="4572000" y="371484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51280" y="1856880"/>
            <a:ext cx="49356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niskonaponske elektro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tavljeni i završeni radovi na sanaciji i rekonstrukciji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rijednost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13.000</a:t>
            </a:r>
            <a:r>
              <a:rPr b="1" lang="en-US" sz="2400" spc="-1" strike="noStrike">
                <a:solidFill>
                  <a:srgbClr val="c0504d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Rectangle 4"/>
          <p:cNvSpPr/>
          <p:nvPr/>
        </p:nvSpPr>
        <p:spPr>
          <a:xfrm flipH="1">
            <a:off x="857160" y="35712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714240" y="107172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9" name="Picture 11" descr="PA160020.JPG"/>
          <p:cNvPicPr/>
          <p:nvPr/>
        </p:nvPicPr>
        <p:blipFill>
          <a:blip r:embed="rId2"/>
          <a:stretch/>
        </p:blipFill>
        <p:spPr>
          <a:xfrm>
            <a:off x="785880" y="3786120"/>
            <a:ext cx="3000240" cy="2144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PA160026.JPG"/>
          <p:cNvPicPr/>
          <p:nvPr/>
        </p:nvPicPr>
        <p:blipFill>
          <a:blip r:embed="rId3"/>
          <a:stretch/>
        </p:blipFill>
        <p:spPr>
          <a:xfrm>
            <a:off x="785880" y="1428840"/>
            <a:ext cx="300024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1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8720" y="1447560"/>
            <a:ext cx="7486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a inicijativu preśednika Crne Gore, gospodina Filipa Vujanovića, početkom 2008. g. formirana radna grupa sa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datkom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definisanja modela za povratak raseljenih lica u MZ Bukovica iz perioda ratnih dešavan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Juna 2008. godine urađen Izvještaj o postojećem stanju sa prijedlogom mjera za obnovu infrastrukture u MZ Bukov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31. jula 2008. g. Vlada usvojila Izvještaj i donijela odluku o realizaciji infrastrukturnih projekata u MZ Bukov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osioci aktivnosti Vlada Crne Gore, Direkcija javnih radova, opština Pljevlja i Udruženje Bukovičan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Glavni pravci ulaganj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u putnu infrastrukturu, elektro distributivnu mrežu i izgradnju individualnih stambenih i pomoćnih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Rectangle 4"/>
          <p:cNvSpPr/>
          <p:nvPr/>
        </p:nvSpPr>
        <p:spPr>
          <a:xfrm flipH="1">
            <a:off x="642240" y="214200"/>
            <a:ext cx="74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MZ Bukov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2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71320" y="857160"/>
            <a:ext cx="80722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8. godini uloženo : u putnu infrastrukturu                 460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elektrodistributivnu mrežu          12.8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472.8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9. godini uloženo : u putnu infrastrukturu                 490.000 €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izgradnju objekata                   258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748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10. godini uloženo : u putnu infrastrukturu                 101.000 €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izgradnju objekata                  659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elektrodistributivnu mrežu      113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873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0000"/>
                </a:solidFill>
                <a:latin typeface="Blue Highway"/>
              </a:rPr>
              <a:t>UKUPNO ULOŽENO</a:t>
            </a:r>
            <a:r>
              <a:rPr b="1" lang="sr-Latn-ME" sz="2800" spc="-1" strike="noStrike">
                <a:solidFill>
                  <a:srgbClr val="ff0000"/>
                </a:solidFill>
                <a:latin typeface="Blue Highway"/>
              </a:rPr>
              <a:t>                             </a:t>
            </a:r>
            <a:r>
              <a:rPr b="1" lang="sr-Latn-ME" sz="3000" spc="-1" strike="noStrike">
                <a:solidFill>
                  <a:srgbClr val="ff0000"/>
                </a:solidFill>
                <a:latin typeface="Blue Highway"/>
              </a:rPr>
              <a:t>  2.093.800 €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Rectangle 4"/>
          <p:cNvSpPr/>
          <p:nvPr/>
        </p:nvSpPr>
        <p:spPr>
          <a:xfrm flipH="1">
            <a:off x="1028160" y="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Finansijsk</a:t>
            </a: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a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 konstrukcija do sada urađenog- pregled po godinam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714240" y="1000080"/>
            <a:ext cx="7669440" cy="4608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0920" y="2205000"/>
            <a:ext cx="8072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kupno uloženo u putnu infrastrukturu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.051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kupno ulo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ženo u izgradnju objekata                             917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kupno uloženo u elektrodistributivnu mrežu                  125.800 €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0000"/>
                </a:solidFill>
                <a:latin typeface="Blue Highway"/>
              </a:rPr>
              <a:t>UKUPNO ULOŽENO                  </a:t>
            </a:r>
            <a:r>
              <a:rPr b="1" lang="sr-Latn-ME" sz="3000" spc="-1" strike="noStrike">
                <a:solidFill>
                  <a:srgbClr val="ff0000"/>
                </a:solidFill>
                <a:latin typeface="Blue Highway"/>
              </a:rPr>
              <a:t>  2.093.000 €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Rectangle 4"/>
          <p:cNvSpPr/>
          <p:nvPr/>
        </p:nvSpPr>
        <p:spPr>
          <a:xfrm flipH="1">
            <a:off x="971640" y="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Finansijsk</a:t>
            </a: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a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 konstrukcija do sada urađenog- pregled po projektim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2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714240" y="1000080"/>
            <a:ext cx="7669440" cy="4608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l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8720" y="1485720"/>
            <a:ext cx="74865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irano 18,5 km postojećeg asfaltnog puta i asfaltirano 4 km novog puta, sanirano i nasuto 50 km makadamskih lokalanih putev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rađena projektna dokumentacija za sanaciju klizišta na putnom pravcu Piperi – Lugovi – Kovačevići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đeno ukupno 3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3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individualna stambena objekta, 26 pomoćnih objekata i jedan stambeni objekat je rekonstruis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irano i rekonstruisano 12 km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Rectangle 4"/>
          <p:cNvSpPr/>
          <p:nvPr/>
        </p:nvSpPr>
        <p:spPr>
          <a:xfrm flipH="1">
            <a:off x="713520" y="35712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Pregled do sada urađeno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571680" y="1071720"/>
            <a:ext cx="774036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edg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8720" y="1928520"/>
            <a:ext cx="7486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Predlogom Budžeta Crne Gore za 2011. g. predviđena je realiacija infrastrukturnih projekata u MZ Bukovica u vrijednosti od </a:t>
            </a:r>
            <a:r>
              <a:rPr b="1" lang="en-US" sz="2800" spc="-1" strike="noStrike">
                <a:solidFill>
                  <a:srgbClr val="000000"/>
                </a:solidFill>
                <a:latin typeface="Blue Highway"/>
              </a:rPr>
              <a:t>525.000 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Nastavak aktivnosti će se sprovoditi u punoj saradnji sa Udruženjem Bukov</a:t>
            </a:r>
            <a:r>
              <a:rPr b="0" lang="sr-Latn-ME" sz="2800" spc="-1" strike="noStrike">
                <a:solidFill>
                  <a:srgbClr val="000000"/>
                </a:solidFill>
                <a:latin typeface="Blue Highwa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čana i lokalnom uprav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1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8571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</a:t>
            </a:r>
            <a:r>
              <a:rPr b="0" lang="en-US" sz="2000" spc="-1" strike="noStrike">
                <a:solidFill>
                  <a:srgbClr val="1f497d"/>
                </a:solidFill>
                <a:latin typeface="Tw Cen MT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460680" y="1844640"/>
            <a:ext cx="543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rocijenjeni b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džet za realizaciju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rojekata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u MZ Bukovic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p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t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infrastruktu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ru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.58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lektrodistributiv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mrež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35.000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i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dividual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stambe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i pomoć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objekt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2.76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kup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a procijenjena vrijednost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4.475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Rectangle 4"/>
          <p:cNvSpPr/>
          <p:nvPr/>
        </p:nvSpPr>
        <p:spPr>
          <a:xfrm flipH="1">
            <a:off x="642240" y="2142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teritoriji MZ Bukovic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2" descr="C:\Users\user\Desktop\Bukovica 2011\Bukovica foto 2010\Bukovica, 2009\28.05\P5282118.JPG"/>
          <p:cNvPicPr/>
          <p:nvPr/>
        </p:nvPicPr>
        <p:blipFill>
          <a:blip r:embed="rId2"/>
          <a:stretch/>
        </p:blipFill>
        <p:spPr>
          <a:xfrm>
            <a:off x="395280" y="1571760"/>
            <a:ext cx="3162240" cy="2071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user\Desktop\Bukovica 2011\Bukovica foto 2010\Bukovica, 2009\28.05\P5282123.JPG"/>
          <p:cNvPicPr/>
          <p:nvPr/>
        </p:nvPicPr>
        <p:blipFill>
          <a:blip r:embed="rId3"/>
          <a:stretch/>
        </p:blipFill>
        <p:spPr>
          <a:xfrm>
            <a:off x="395280" y="3786120"/>
            <a:ext cx="316224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56800" y="1285920"/>
            <a:ext cx="74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Bukovica je najveća mjesna zajednica u opštini Pljevl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Mjesni centar u Kovačevićima udaljen od Pljevalja 6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Površina 104 km² ili 7,7% pljev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ljske opštin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49 sela i zaseoka svrstanih u 26 nasel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Rectangle 4"/>
          <p:cNvSpPr/>
          <p:nvPr/>
        </p:nvSpPr>
        <p:spPr>
          <a:xfrm flipH="1">
            <a:off x="642240" y="2142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teritoriji MZ Bukovic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Picture 10" descr="TMP16.JPG"/>
          <p:cNvPicPr/>
          <p:nvPr/>
        </p:nvPicPr>
        <p:blipFill>
          <a:blip r:embed="rId2"/>
          <a:stretch/>
        </p:blipFill>
        <p:spPr>
          <a:xfrm>
            <a:off x="1566720" y="2781360"/>
            <a:ext cx="565164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11280" y="1628640"/>
            <a:ext cx="43578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264600" indent="-2214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31000" indent="-2214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anacija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rekonstrukcija putnog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pravca Poljana – Piperi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 dužini od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8,5km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(od čega 9km novog asfalta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2" descr="C:\Users\user\Desktop\Bukovica 2011\Bukovica foto 2010\Bukovica 2008\05.09\P9050008.JPG"/>
          <p:cNvPicPr/>
          <p:nvPr/>
        </p:nvPicPr>
        <p:blipFill>
          <a:blip r:embed="rId2"/>
          <a:stretch/>
        </p:blipFill>
        <p:spPr>
          <a:xfrm>
            <a:off x="857160" y="1143000"/>
            <a:ext cx="3214800" cy="2454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C:\Users\user\Desktop\Bukovica 2011\Bukovica foto 2010\Bukovica 2008\05.09\P9050006.JPG"/>
          <p:cNvPicPr/>
          <p:nvPr/>
        </p:nvPicPr>
        <p:blipFill>
          <a:blip r:embed="rId3"/>
          <a:stretch/>
        </p:blipFill>
        <p:spPr>
          <a:xfrm>
            <a:off x="4714920" y="373536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Users\user\Desktop\Bukovica 2011\Bukovica foto 2010\Bukovica 2008\16.10\PA160034.JPG"/>
          <p:cNvPicPr/>
          <p:nvPr/>
        </p:nvPicPr>
        <p:blipFill>
          <a:blip r:embed="rId4"/>
          <a:stretch/>
        </p:blipFill>
        <p:spPr>
          <a:xfrm>
            <a:off x="857160" y="3714840"/>
            <a:ext cx="3186360" cy="2388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286160" y="2071800"/>
            <a:ext cx="421488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acija makadamskog puta Piperi – Kovačevići u dužini od 8,5k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0" name="Picture 2" descr="C:\Users\user\Desktop\Bukovica 2011\Bukovica foto 2010\Bukovica 2008\05.09\P9050011.JPG"/>
          <p:cNvPicPr/>
          <p:nvPr/>
        </p:nvPicPr>
        <p:blipFill>
          <a:blip r:embed="rId2"/>
          <a:stretch/>
        </p:blipFill>
        <p:spPr>
          <a:xfrm>
            <a:off x="571680" y="1285920"/>
            <a:ext cx="364320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57400" y="1642680"/>
            <a:ext cx="4857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kupno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putnu infrastrukturu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08. godini uloženo </a:t>
            </a:r>
            <a:r>
              <a:rPr b="1" lang="sr-Latn-ME" sz="2400" spc="-1" strike="noStrike">
                <a:solidFill>
                  <a:srgbClr val="000000"/>
                </a:solidFill>
                <a:latin typeface="Blue Highway"/>
              </a:rPr>
              <a:t>460.000 €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, od čega Vlada Crne Gore preko Direkcije javnih radova 440.000 i opština Pljevlja                 20.000 €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Picture 6" descr="C:\Users\user\Desktop\Bukovica 2011\Bukovica foto 2010\Bukovica 2008\05.09\P9050005.JPG"/>
          <p:cNvPicPr/>
          <p:nvPr/>
        </p:nvPicPr>
        <p:blipFill>
          <a:blip r:embed="rId2"/>
          <a:stretch/>
        </p:blipFill>
        <p:spPr>
          <a:xfrm>
            <a:off x="857160" y="3591000"/>
            <a:ext cx="2857680" cy="2481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:\Users\user\Desktop\Bukovica 2011\Bukovica foto 2010\Bukovica 2008\05.09\P9050007.JPG"/>
          <p:cNvPicPr/>
          <p:nvPr/>
        </p:nvPicPr>
        <p:blipFill>
          <a:blip r:embed="rId3"/>
          <a:stretch/>
        </p:blipFill>
        <p:spPr>
          <a:xfrm>
            <a:off x="857160" y="1098720"/>
            <a:ext cx="2857680" cy="233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1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571920" y="1642680"/>
            <a:ext cx="47433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niskonaponske elektro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 saradnji sa Elektroprivredom Crne Gore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otpočeli radovi na sanaciji i rekonstrukciji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rijednost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2.8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7142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10" descr="PA160019.JPG"/>
          <p:cNvPicPr/>
          <p:nvPr/>
        </p:nvPicPr>
        <p:blipFill>
          <a:blip r:embed="rId2"/>
          <a:stretch/>
        </p:blipFill>
        <p:spPr>
          <a:xfrm>
            <a:off x="571680" y="12859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Users\user\Desktop\Bukovica 2011\Bukovica foto 2010\Bukovica 2008\16.10\PA160027.JPG"/>
          <p:cNvPicPr/>
          <p:nvPr/>
        </p:nvPicPr>
        <p:blipFill>
          <a:blip r:embed="rId3"/>
          <a:stretch/>
        </p:blipFill>
        <p:spPr>
          <a:xfrm>
            <a:off x="571680" y="3714840"/>
            <a:ext cx="27619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357440" y="2143080"/>
            <a:ext cx="450036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Asfaltiranje lokalnog puta Lugovi – Kovačevići u dužini od 4 k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6" name="Picture 4" descr="C:\Users\user\Desktop\Bukovica 2011\Bukovica foto 2010\Bukovica 2008\16.10\PA160031.JPG"/>
          <p:cNvPicPr/>
          <p:nvPr/>
        </p:nvPicPr>
        <p:blipFill>
          <a:blip r:embed="rId2"/>
          <a:stretch/>
        </p:blipFill>
        <p:spPr>
          <a:xfrm>
            <a:off x="500040" y="1285920"/>
            <a:ext cx="3500640" cy="2214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C:\Users\user\Desktop\Bukovica 2011\Bukovica foto 2010\Bukovica 2008\16.10\PA160035.JPG"/>
          <p:cNvPicPr/>
          <p:nvPr/>
        </p:nvPicPr>
        <p:blipFill>
          <a:blip r:embed="rId3"/>
          <a:stretch/>
        </p:blipFill>
        <p:spPr>
          <a:xfrm>
            <a:off x="500040" y="3714840"/>
            <a:ext cx="3500640" cy="230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9:03:24Z</dcterms:created>
  <dc:creator>user</dc:creator>
  <dc:description/>
  <dc:language>en-US</dc:language>
  <cp:lastModifiedBy> </cp:lastModifiedBy>
  <dcterms:modified xsi:type="dcterms:W3CDTF">2011-03-21T08:52:34Z</dcterms:modified>
  <cp:revision>174</cp:revision>
  <dc:subject/>
  <dc:title>Vlada Crne Gore          Direkcija javnih radova</dc:title>
</cp:coreProperties>
</file>