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34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2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kj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kcija javnih radova                                              Vlada Crne Gore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F908-F37B-4DEE-BD9D-A48387627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kcija javnih radova                                              Vlada Crne Gore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2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kj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781D-7251-44D5-9344-36E3FF4E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19E9-EC75-48A4-ABD2-D36A4A3B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4801-3E89-4B61-829A-572A1774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996-87CE-45CE-8018-5194DB24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7416-B47D-46DC-A68E-4940F603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05F2-E59D-4F9E-84D6-A470D0C5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4A73-B121-4F75-B4D9-76D62887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98D1-0663-49FF-A934-831E1031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91F4-DDF8-4BCD-A27D-532CC7B0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E500-4148-45D8-8FF6-852C3E44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C136-0273-4FD1-BC4B-4DF4B104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F5A5-8D03-4721-B011-0D59EC0B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3D5B-9857-46A4-A7A4-F112361C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E980-67C2-41E5-81B6-4A3EE95C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3C2C-B92B-418B-8D08-1D961009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3D46-B11D-488F-A361-620F9733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171F-AA92-49DB-81AB-CBA56DBA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58D1A-3EBD-40D0-862D-E733CD10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FE98B-5DD0-4783-A17F-0D770B65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79EDA-298B-4FEB-AABD-EC17397A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32CDC-F3E7-4875-89BA-D6CEAEA0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F4BA6-3868-405D-B7ED-B5D5C51A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FF48-538A-4C9D-AAE1-967CDFE0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5B35A-C532-4DB4-BE1B-6F10AD01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524DA-4A77-4831-8CE2-3C4E5FCC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5CF71-5FD8-4DF3-96AC-5FFE600F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D397B-323C-4B39-9947-15B992AC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61BBC-F6C6-488F-A8A6-7B607B1D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BF317-A490-44B7-8070-B404C147A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7BA46-05DC-41AE-9AFA-AAB992DC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C1379-9BC4-4348-A035-98744D8B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0D11E-091E-4547-A4B5-AFD5867D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DD3B0-DD86-495E-BBED-BACD746E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68B1-A364-492E-B590-BD81B984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67FD4-49F2-4106-826F-FBEE8054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5FAD9-03D2-459E-92BF-66EC5D43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A64DD-6691-4974-8CB0-D1E5FC84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8C5B0-E2B8-4B01-9E4D-EB3D66E5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7D45B-A1D7-49C2-9E7D-96919F32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C1E5E-9BDD-4140-8739-1971BCF0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90B18-FE6F-4A2B-9DC7-6384F621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29B1F-8B43-4281-9BC3-89303661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BE848-3BAE-497F-A0C9-B94456D2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3531A-B0ED-4113-A008-C7A456ED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3628-B7E4-4E64-8DCE-2D1163B2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9D202-AD67-48F2-8377-D45109BA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229F4-F4BA-4A47-A81F-F5CDA7AE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D5BFB-3CB0-49C2-BA3F-34619362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B5628-9ECC-4D6E-B8EB-2CE1F372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8F728-0B3C-4639-8B16-13A6FE28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864E0-E0E5-4432-A4B7-7D56502E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4F0FE-505A-4C6F-B40D-3FB8A537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2076F-AAF8-4E33-B83E-2B8DCDAC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9F530-9495-420D-BD82-6F2E7E86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35199-1DFA-4BC4-8557-7F2608AF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89DE-63F2-400F-A30C-32B3C578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53FE2-24AD-43E7-9A46-67843C09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2386-72AC-4DE6-BCA6-48895889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8E24-60F2-4374-98C8-79583A0D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3417-2E8F-4B3F-9EA4-ECE99525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3/13/2011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2C85-C726-412D-949F-16488991F12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3/13/2011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7728-4227-42C2-BF05-12C5409D4D3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3/13/2011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1BE8-E282-4CB8-A867-3D8AA69F535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3/13/2011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EACF-8E5B-497B-8C71-6875FB2BBAB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3/13/2011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DEEA-610D-4CE8-99FE-BCE9CCF88CF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85520" y="704880"/>
            <a:ext cx="7900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w Cen MT"/>
              </a:rPr>
              <a:t>    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VLADA CRNE GORE</a:t>
            </a:r>
            <a:br>
              <a:rPr sz="3200"/>
            </a:b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     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DIREKCIJA JAVNIH RADOVA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6" name="Date Placeholder 20"/>
          <p:cNvSpPr/>
          <p:nvPr/>
        </p:nvSpPr>
        <p:spPr>
          <a:xfrm>
            <a:off x="428760" y="6072120"/>
            <a:ext cx="82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1f497d"/>
                </a:solidFill>
                <a:latin typeface="Perpetua"/>
              </a:rPr>
              <a:t>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8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285840" y="214200"/>
            <a:ext cx="873000" cy="1008000"/>
          </a:xfrm>
          <a:prstGeom prst="rect">
            <a:avLst/>
          </a:prstGeom>
          <a:ln w="0">
            <a:noFill/>
          </a:ln>
        </p:spPr>
      </p:pic>
      <p:pic>
        <p:nvPicPr>
          <p:cNvPr id="239" name="Rectangle 18" descr=""/>
          <p:cNvPicPr/>
          <p:nvPr/>
        </p:nvPicPr>
        <p:blipFill>
          <a:blip r:embed="rId2"/>
          <a:stretch/>
        </p:blipFill>
        <p:spPr>
          <a:xfrm>
            <a:off x="963720" y="2352600"/>
            <a:ext cx="7235640" cy="30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9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850920" y="2491920"/>
            <a:ext cx="500076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9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putne infrastruk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Sanacija alternativnog puta Piperi – Lugovi u dužini od 8,5 k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(djelimično proširenje i nasipanje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Rectangle 4"/>
          <p:cNvSpPr/>
          <p:nvPr/>
        </p:nvSpPr>
        <p:spPr>
          <a:xfrm flipH="1">
            <a:off x="642240" y="3571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09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2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64296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5" name="Picture 13" descr="C:\Users\user\Desktop\Bukovica 2011\Bukovica foto 2010\22.04\P4225781.JPG"/>
          <p:cNvPicPr/>
          <p:nvPr/>
        </p:nvPicPr>
        <p:blipFill>
          <a:blip r:embed="rId2"/>
          <a:stretch/>
        </p:blipFill>
        <p:spPr>
          <a:xfrm>
            <a:off x="500040" y="1000080"/>
            <a:ext cx="3357720" cy="2481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5" descr="C:\Users\user\Desktop\Bukovica 2011\Bukovica foto 2010\22.04\P4225784.JPG"/>
          <p:cNvPicPr/>
          <p:nvPr/>
        </p:nvPicPr>
        <p:blipFill>
          <a:blip r:embed="rId3"/>
          <a:stretch/>
        </p:blipFill>
        <p:spPr>
          <a:xfrm>
            <a:off x="500040" y="3571920"/>
            <a:ext cx="335772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8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50920" y="1699920"/>
            <a:ext cx="5041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9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Rekonstrukcija putne infrastruktur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Nasipanje puteva: Kovačevići – Debelo Brdo – Granica u dužini od 10,5 km, Kovačevići – Planjsko u dužini od 11 km i Kovačevići – Srečanje u dužini od 5 k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Izrada elaborata za sanaciju klizišta na putu Piperi–Lugovi –Kovačevići,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2009. godini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Vlada Crne Gore preko Direkcije javnih radova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za putnu infrastrukturu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ložila </a:t>
            </a:r>
            <a:r>
              <a:rPr b="1" lang="en-US" sz="2000" spc="-1" strike="noStrike">
                <a:solidFill>
                  <a:srgbClr val="000000"/>
                </a:solidFill>
                <a:latin typeface="Blue Highway"/>
              </a:rPr>
              <a:t>490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0" name="Rectangle 4"/>
          <p:cNvSpPr/>
          <p:nvPr/>
        </p:nvSpPr>
        <p:spPr>
          <a:xfrm flipH="1">
            <a:off x="570960" y="285840"/>
            <a:ext cx="75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09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1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64296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4" name="Picture 12" descr="C:\Users\user\Desktop\Bukovica 2011\Bukovica foto 2010\Bukovica, 2009\28.10\PA273460.JPG"/>
          <p:cNvPicPr/>
          <p:nvPr/>
        </p:nvPicPr>
        <p:blipFill>
          <a:blip r:embed="rId2"/>
          <a:stretch/>
        </p:blipFill>
        <p:spPr>
          <a:xfrm>
            <a:off x="714240" y="1214280"/>
            <a:ext cx="3143520" cy="22147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C:\Users\user\Desktop\Bukovica 2011\Bukovica foto 2010\Bukovica, 2009\28.10\PA273459.JPG"/>
          <p:cNvPicPr/>
          <p:nvPr/>
        </p:nvPicPr>
        <p:blipFill>
          <a:blip r:embed="rId3"/>
          <a:stretch/>
        </p:blipFill>
        <p:spPr>
          <a:xfrm>
            <a:off x="714240" y="3571920"/>
            <a:ext cx="3143520" cy="2351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7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929040" y="1000080"/>
            <a:ext cx="45720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Izgradnja individualnih stambenih i pomoćnih objekat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govorena izgradnja montažnih individualnih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stambenih i pomoćnih objekata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za povratak 12 porodic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Počela izgradnja 12 objekat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Rectangle 4"/>
          <p:cNvSpPr/>
          <p:nvPr/>
        </p:nvSpPr>
        <p:spPr>
          <a:xfrm flipH="1">
            <a:off x="1143720" y="285840"/>
            <a:ext cx="69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zacija aktivnosti u 2009. godin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0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50004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3" name="Picture 2" descr="C:\Users\user\Desktop\Bukovica 2011\Bukovica foto 2010\Bukovica, 2009\03.11\Bukovica 1, 03.11.jpg"/>
          <p:cNvPicPr/>
          <p:nvPr/>
        </p:nvPicPr>
        <p:blipFill>
          <a:blip r:embed="rId2"/>
          <a:stretch/>
        </p:blipFill>
        <p:spPr>
          <a:xfrm>
            <a:off x="571680" y="107172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C:\Users\user\Desktop\Bukovica 2011\Bukovica foto 2010\Bukovica, 2009\03.11\Bukovica 4, 03.11.jpg"/>
          <p:cNvPicPr/>
          <p:nvPr/>
        </p:nvPicPr>
        <p:blipFill>
          <a:blip r:embed="rId3"/>
          <a:stretch/>
        </p:blipFill>
        <p:spPr>
          <a:xfrm>
            <a:off x="571680" y="3571920"/>
            <a:ext cx="3143160" cy="2509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C:\Users\user\Desktop\Bukovica 2011\Bukovica foto 2010\Bukovica, 2009\03.11\PB033690.JPG"/>
          <p:cNvPicPr/>
          <p:nvPr/>
        </p:nvPicPr>
        <p:blipFill>
          <a:blip r:embed="rId4"/>
          <a:stretch/>
        </p:blipFill>
        <p:spPr>
          <a:xfrm>
            <a:off x="4643280" y="3571920"/>
            <a:ext cx="328644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7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 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714480" y="2000160"/>
            <a:ext cx="507204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Izgradnja individualnih stambenih i pomoćnih objekat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U 2009. godini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Vlada Crne Gore preko Direkcije javnih radova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za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izgradnju objekata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uložila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258.000 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Rectangle 4"/>
          <p:cNvSpPr/>
          <p:nvPr/>
        </p:nvSpPr>
        <p:spPr>
          <a:xfrm flipH="1">
            <a:off x="1143720" y="285840"/>
            <a:ext cx="69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zacija aktivnosti u 2009. godin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0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50004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3" name="Picture 3" descr="C:\Users\user\Desktop\Bukovica 2011\Bukovica foto 2010\Bukovica, 2009\13.11\PB133774.JPG"/>
          <p:cNvPicPr/>
          <p:nvPr/>
        </p:nvPicPr>
        <p:blipFill>
          <a:blip r:embed="rId2"/>
          <a:stretch/>
        </p:blipFill>
        <p:spPr>
          <a:xfrm>
            <a:off x="571680" y="35002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C:\Users\user\Desktop\Bukovica 2011\Bukovica foto 2010\Bukovica, 2009\13.11\PB133779.JPG"/>
          <p:cNvPicPr/>
          <p:nvPr/>
        </p:nvPicPr>
        <p:blipFill>
          <a:blip r:embed="rId3"/>
          <a:stretch/>
        </p:blipFill>
        <p:spPr>
          <a:xfrm>
            <a:off x="571680" y="1071720"/>
            <a:ext cx="2928600" cy="2197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6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142880" y="1857240"/>
            <a:ext cx="47149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 putne infrastruk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Nasipanje lokalnog puta Kovačevići – Planjsko – Moćevići u dužini od 3 km (nastavak radova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Završena izrada projekta sanacije klizišta na putnom pravcu Piperi – Lugovi –  Kovačevići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Rectangle 4"/>
          <p:cNvSpPr/>
          <p:nvPr/>
        </p:nvSpPr>
        <p:spPr>
          <a:xfrm flipH="1">
            <a:off x="785880" y="28584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0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9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642960" y="100008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2" name="Picture 16" descr="C:\Users\user\Desktop\Bukovica 2011\Bukovica foto 2010\22.04\P4225782.JPG"/>
          <p:cNvPicPr/>
          <p:nvPr/>
        </p:nvPicPr>
        <p:blipFill>
          <a:blip r:embed="rId2"/>
          <a:stretch/>
        </p:blipFill>
        <p:spPr>
          <a:xfrm>
            <a:off x="785880" y="3571920"/>
            <a:ext cx="3214800" cy="2286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7" descr="C:\Users\user\Desktop\Bukovica 2011\Bukovica foto 2010\22.04\P4225786.JPG"/>
          <p:cNvPicPr/>
          <p:nvPr/>
        </p:nvPicPr>
        <p:blipFill>
          <a:blip r:embed="rId3"/>
          <a:stretch/>
        </p:blipFill>
        <p:spPr>
          <a:xfrm>
            <a:off x="785880" y="1143000"/>
            <a:ext cx="32148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6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5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071600" y="1714320"/>
            <a:ext cx="471492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248040" indent="-20772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 putne infrastruk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498240" indent="-20772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Probijeno i nasuto 4 km puteva do izgrađenih individualnih stambenih objekat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498240" indent="-20772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U 2010. godini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Vlada Crne Gore preko Direkcije javnih radova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za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putnu infrastrukturu ulo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žila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101.000 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7" name="Rectangle 4"/>
          <p:cNvSpPr/>
          <p:nvPr/>
        </p:nvSpPr>
        <p:spPr>
          <a:xfrm flipH="1">
            <a:off x="713520" y="28584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0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8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642960" y="100008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61" name="Picture 18" descr="C:\Users\user\Desktop\Bukovica 2011\Bukovica foto 2010\21.09\P9177808.JPG"/>
          <p:cNvPicPr/>
          <p:nvPr/>
        </p:nvPicPr>
        <p:blipFill>
          <a:blip r:embed="rId2"/>
          <a:stretch/>
        </p:blipFill>
        <p:spPr>
          <a:xfrm>
            <a:off x="857160" y="3606840"/>
            <a:ext cx="3000600" cy="23223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9" descr="C:\Users\user\Desktop\Bukovica 2011\Bukovica foto 2010\21.07\P7217055.JPG"/>
          <p:cNvPicPr/>
          <p:nvPr/>
        </p:nvPicPr>
        <p:blipFill>
          <a:blip r:embed="rId3"/>
          <a:stretch/>
        </p:blipFill>
        <p:spPr>
          <a:xfrm>
            <a:off x="857160" y="1214280"/>
            <a:ext cx="3024360" cy="2251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64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780000" y="1267920"/>
            <a:ext cx="49291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270000" indent="-226080">
              <a:lnSpc>
                <a:spcPct val="9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Izgradnja individualnih stambenih i pomoćnih objekat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1800" indent="-226080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Nastavljeni i završeni radovi na objektima ugovorenim u 2009. g.Vrijednost izvedenih radova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94.000 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1800" indent="-226080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Ugovorena izgradnja novih montažnih individualnih stambenih i pomoćnih objekata za povratak 20 porodic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1800" indent="-226080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Svi radovi na izgradnji novih objekata završeni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6" name="Rectangle 4"/>
          <p:cNvSpPr/>
          <p:nvPr/>
        </p:nvSpPr>
        <p:spPr>
          <a:xfrm flipH="1">
            <a:off x="928080" y="357120"/>
            <a:ext cx="714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0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67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571680" y="1071720"/>
            <a:ext cx="774036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0" name="Picture 7" descr="P7206977.JPG"/>
          <p:cNvPicPr/>
          <p:nvPr/>
        </p:nvPicPr>
        <p:blipFill>
          <a:blip r:embed="rId2"/>
          <a:stretch/>
        </p:blipFill>
        <p:spPr>
          <a:xfrm>
            <a:off x="1000080" y="1428840"/>
            <a:ext cx="2714760" cy="20714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3" descr="P7206928.JPG"/>
          <p:cNvPicPr/>
          <p:nvPr/>
        </p:nvPicPr>
        <p:blipFill>
          <a:blip r:embed="rId3"/>
          <a:stretch/>
        </p:blipFill>
        <p:spPr>
          <a:xfrm>
            <a:off x="1000080" y="3714840"/>
            <a:ext cx="271476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3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571920" y="1428840"/>
            <a:ext cx="521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261720" indent="-219240">
              <a:lnSpc>
                <a:spcPct val="8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Izgradnja individualnih stambenih i pomoćnih objekat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25600" indent="-219240">
              <a:lnSpc>
                <a:spcPct val="8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U 2010. godini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Vlada Crne Gore preko Direkcije javnih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adova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za izgradnju objekata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uložila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25600" indent="-2192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000000"/>
                </a:solidFill>
                <a:latin typeface="Blue Highway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659.000 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Rectangle 4"/>
          <p:cNvSpPr/>
          <p:nvPr/>
        </p:nvSpPr>
        <p:spPr>
          <a:xfrm flipH="1">
            <a:off x="642240" y="28584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0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6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8" name="Rectangle 9"/>
          <p:cNvSpPr/>
          <p:nvPr/>
        </p:nvSpPr>
        <p:spPr>
          <a:xfrm>
            <a:off x="714240" y="100008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9" name="Picture 9" descr="Picture20.jpg"/>
          <p:cNvPicPr/>
          <p:nvPr/>
        </p:nvPicPr>
        <p:blipFill>
          <a:blip r:embed="rId2"/>
          <a:stretch/>
        </p:blipFill>
        <p:spPr>
          <a:xfrm>
            <a:off x="928800" y="1143000"/>
            <a:ext cx="2571480" cy="2427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1" descr="P7206952.JPG"/>
          <p:cNvPicPr/>
          <p:nvPr/>
        </p:nvPicPr>
        <p:blipFill>
          <a:blip r:embed="rId3"/>
          <a:stretch/>
        </p:blipFill>
        <p:spPr>
          <a:xfrm>
            <a:off x="928800" y="3727440"/>
            <a:ext cx="2571480" cy="23446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2" descr="PA228144.JPG"/>
          <p:cNvPicPr/>
          <p:nvPr/>
        </p:nvPicPr>
        <p:blipFill>
          <a:blip r:embed="rId4"/>
          <a:stretch/>
        </p:blipFill>
        <p:spPr>
          <a:xfrm>
            <a:off x="4429080" y="3714840"/>
            <a:ext cx="307188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3" name="Date Placeholder 6"/>
          <p:cNvSpPr/>
          <p:nvPr/>
        </p:nvSpPr>
        <p:spPr>
          <a:xfrm>
            <a:off x="500040" y="6215040"/>
            <a:ext cx="7972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   </a:t>
            </a:r>
            <a:r>
              <a:rPr b="0" lang="en-US" sz="2000" spc="-1" strike="noStrike">
                <a:solidFill>
                  <a:srgbClr val="1f497d"/>
                </a:solidFill>
                <a:latin typeface="Blue Highway"/>
              </a:rPr>
              <a:t>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Rectangle 4"/>
          <p:cNvSpPr/>
          <p:nvPr/>
        </p:nvSpPr>
        <p:spPr>
          <a:xfrm flipH="1">
            <a:off x="642240" y="28584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0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85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714240" y="100008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88" name="Picture 8" descr="PA228147.JPG"/>
          <p:cNvPicPr/>
          <p:nvPr/>
        </p:nvPicPr>
        <p:blipFill>
          <a:blip r:embed="rId2"/>
          <a:stretch/>
        </p:blipFill>
        <p:spPr>
          <a:xfrm>
            <a:off x="4572000" y="1143000"/>
            <a:ext cx="3571920" cy="24447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P7026683.JPG"/>
          <p:cNvPicPr/>
          <p:nvPr/>
        </p:nvPicPr>
        <p:blipFill>
          <a:blip r:embed="rId3"/>
          <a:stretch/>
        </p:blipFill>
        <p:spPr>
          <a:xfrm>
            <a:off x="1071720" y="1143000"/>
            <a:ext cx="3214440" cy="24289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P1010145.JPG"/>
          <p:cNvPicPr/>
          <p:nvPr/>
        </p:nvPicPr>
        <p:blipFill>
          <a:blip r:embed="rId4"/>
          <a:stretch/>
        </p:blipFill>
        <p:spPr>
          <a:xfrm>
            <a:off x="1071720" y="3714840"/>
            <a:ext cx="3214440" cy="23572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P7206977.JPG"/>
          <p:cNvPicPr/>
          <p:nvPr/>
        </p:nvPicPr>
        <p:blipFill>
          <a:blip r:embed="rId5"/>
          <a:stretch/>
        </p:blipFill>
        <p:spPr>
          <a:xfrm>
            <a:off x="4572000" y="3714840"/>
            <a:ext cx="3571920" cy="2357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3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851280" y="1856880"/>
            <a:ext cx="49356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 niskonaponske elektro mrež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Nastavljeni i završeni radovi na sanaciji i rekonstrukciji nisko naponske elektrodistributivne mrež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Vrijednost radova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113.000</a:t>
            </a:r>
            <a:r>
              <a:rPr b="1" lang="en-US" sz="2400" spc="-1" strike="noStrike">
                <a:solidFill>
                  <a:srgbClr val="c0504d"/>
                </a:solidFill>
                <a:latin typeface="Blue Highway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Rectangle 4"/>
          <p:cNvSpPr/>
          <p:nvPr/>
        </p:nvSpPr>
        <p:spPr>
          <a:xfrm flipH="1">
            <a:off x="857160" y="35712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0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96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714240" y="107172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99" name="Picture 11" descr="PA160020.JPG"/>
          <p:cNvPicPr/>
          <p:nvPr/>
        </p:nvPicPr>
        <p:blipFill>
          <a:blip r:embed="rId2"/>
          <a:stretch/>
        </p:blipFill>
        <p:spPr>
          <a:xfrm>
            <a:off x="785880" y="3786120"/>
            <a:ext cx="3000240" cy="2144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2" descr="PA160026.JPG"/>
          <p:cNvPicPr/>
          <p:nvPr/>
        </p:nvPicPr>
        <p:blipFill>
          <a:blip r:embed="rId3"/>
          <a:stretch/>
        </p:blipFill>
        <p:spPr>
          <a:xfrm>
            <a:off x="785880" y="1428840"/>
            <a:ext cx="300024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1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28720" y="1447560"/>
            <a:ext cx="748656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Na inicijativu preśednika Crne Gore, gospodina Filipa Vujanovića, početkom 2008. g. formirana radna grupa sa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zadatkom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definisanja modela za povratak raseljenih lica u MZ Bukovica iz perioda ratnih dešavanj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Juna 2008. godine urađen Izvještaj o postojećem stanju sa prijedlogom mjera za obnovu infrastrukture u MZ Bukovic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31. jula 2008. g. Vlada usvojila Izvještaj i donijela odluku o realizaciji infrastrukturnih projekata u MZ Bukovic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Nosioci aktivnosti Vlada Crne Gore, Direkcija javnih radova, opština Pljevlja i Udruženje Bukovičan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Glavni pravci ulaganja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u putnu infrastrukturu, elektro distributivnu mrežu i izgradnju individualnih stambenih i pomoćnih objekat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Rectangle 4"/>
          <p:cNvSpPr/>
          <p:nvPr/>
        </p:nvSpPr>
        <p:spPr>
          <a:xfrm flipH="1">
            <a:off x="642240" y="214200"/>
            <a:ext cx="742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Povratak raseljenih lica i poboljšanje uslova života na MZ Bukovic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9"/>
          <p:cNvSpPr/>
          <p:nvPr/>
        </p:nvSpPr>
        <p:spPr>
          <a:xfrm>
            <a:off x="642960" y="135720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slow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02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571320" y="857160"/>
            <a:ext cx="80722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2008. godini uloženo : u putnu infrastrukturu                 460.000 €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        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elektrodistributivnu mrežu          12.8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                       </a:t>
            </a:r>
            <a:r>
              <a:rPr b="0" lang="sr-Latn-ME" sz="2000" spc="-1" strike="noStrike">
                <a:solidFill>
                  <a:srgbClr val="ff0000"/>
                </a:solidFill>
                <a:latin typeface="Blue Highway"/>
              </a:rPr>
              <a:t>Ukupno                    472.8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2009. godini uloženo : u putnu infrastrukturu                 490.000 €,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         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izgradnju objekata                   258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                       </a:t>
            </a:r>
            <a:r>
              <a:rPr b="0" lang="sr-Latn-ME" sz="2000" spc="-1" strike="noStrike">
                <a:solidFill>
                  <a:srgbClr val="ff0000"/>
                </a:solidFill>
                <a:latin typeface="Blue Highway"/>
              </a:rPr>
              <a:t>Ukupno                    748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2010. godini uloženo : u putnu infrastrukturu                 101.000 €,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         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izgradnju objekata                  659.000 €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         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elektrodistributivnu mrežu      113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0000"/>
                </a:solidFill>
                <a:latin typeface="Blue Highway"/>
              </a:rPr>
              <a:t>                                                       </a:t>
            </a:r>
            <a:r>
              <a:rPr b="0" lang="sr-Latn-ME" sz="2000" spc="-1" strike="noStrike">
                <a:solidFill>
                  <a:srgbClr val="ff0000"/>
                </a:solidFill>
                <a:latin typeface="Blue Highway"/>
              </a:rPr>
              <a:t>Ukupno                    873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0000"/>
                </a:solidFill>
                <a:latin typeface="Blue Highway"/>
              </a:rPr>
              <a:t>UKUPNO ULOŽENO</a:t>
            </a:r>
            <a:r>
              <a:rPr b="1" lang="sr-Latn-ME" sz="2800" spc="-1" strike="noStrike">
                <a:solidFill>
                  <a:srgbClr val="ff0000"/>
                </a:solidFill>
                <a:latin typeface="Blue Highway"/>
              </a:rPr>
              <a:t>                             </a:t>
            </a:r>
            <a:r>
              <a:rPr b="1" lang="sr-Latn-ME" sz="3000" spc="-1" strike="noStrike">
                <a:solidFill>
                  <a:srgbClr val="ff0000"/>
                </a:solidFill>
                <a:latin typeface="Blue Highway"/>
              </a:rPr>
              <a:t>  2.093.800 €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Rectangle 4"/>
          <p:cNvSpPr/>
          <p:nvPr/>
        </p:nvSpPr>
        <p:spPr>
          <a:xfrm flipH="1">
            <a:off x="1028160" y="0"/>
            <a:ext cx="714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Finansijsk</a:t>
            </a: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a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 konstrukcija do sada urađenog- pregled po godinam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05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714240" y="1000080"/>
            <a:ext cx="7669440" cy="4608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slow">
    <p:wipe dir="l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09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0920" y="2205000"/>
            <a:ext cx="8072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264600" indent="-2214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64600" indent="-2214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kupno uloženo u putnu infrastrukturu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1.051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.000 €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4600" indent="-2214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kupno ulo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ženo u izgradnju objekata                             917.000 €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4600" indent="-2214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kupno uloženo u elektrodistributivnu mrežu                  125.800 €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64600" indent="-2214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64600" indent="-2214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ff0000"/>
                </a:solidFill>
                <a:latin typeface="Blue Highway"/>
              </a:rPr>
              <a:t>UKUPNO ULOŽENO                  </a:t>
            </a:r>
            <a:r>
              <a:rPr b="1" lang="sr-Latn-ME" sz="3000" spc="-1" strike="noStrike">
                <a:solidFill>
                  <a:srgbClr val="ff0000"/>
                </a:solidFill>
                <a:latin typeface="Blue Highway"/>
              </a:rPr>
              <a:t>  2.093.000 €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1" name="Rectangle 4"/>
          <p:cNvSpPr/>
          <p:nvPr/>
        </p:nvSpPr>
        <p:spPr>
          <a:xfrm flipH="1">
            <a:off x="971640" y="0"/>
            <a:ext cx="714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Finansijsk</a:t>
            </a: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a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 konstrukcija do sada urađenog- pregled po projektim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12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714240" y="1000080"/>
            <a:ext cx="7669440" cy="4608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slow">
    <p:wipe dir="l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6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28720" y="1485720"/>
            <a:ext cx="748656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Sanirano 18,5 km postojećeg asfaltnog puta i asfaltirano 4 km novog puta, sanirano i nasuto 50 km makadamskih lokalanih putev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Izrađena projektna dokumentacija za sanaciju klizišta na putnom pravcu Piperi – Lugovi – Kovačevići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Izgra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đeno ukupno 3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3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individualna stambena objekta, 26 pomoćnih objekata i jedan stambeni objekat je rekonstruisa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Sanirano i rekonstruisano 12 km nisko naponske elektrodistributivne mrež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8" name="Rectangle 4"/>
          <p:cNvSpPr/>
          <p:nvPr/>
        </p:nvSpPr>
        <p:spPr>
          <a:xfrm flipH="1">
            <a:off x="713520" y="35712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Pregled do sada urađenog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19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571680" y="1071720"/>
            <a:ext cx="774036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slow">
    <p:wedge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23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28720" y="1928520"/>
            <a:ext cx="748656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Predlogom Budžeta Crne Gore za 2011. g. predviđena je realiacija infrastrukturnih projekata u MZ Bukovica u vrijednosti od </a:t>
            </a:r>
            <a:r>
              <a:rPr b="1" lang="en-US" sz="2800" spc="-1" strike="noStrike">
                <a:solidFill>
                  <a:srgbClr val="000000"/>
                </a:solidFill>
                <a:latin typeface="Blue Highway"/>
              </a:rPr>
              <a:t>525.000 €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Nastavak aktivnosti će se sprovoditi u punoj saradnji sa Udruženjem Bukov</a:t>
            </a:r>
            <a:r>
              <a:rPr b="0" lang="sr-Latn-ME" sz="2800" spc="-1" strike="noStrike">
                <a:solidFill>
                  <a:srgbClr val="000000"/>
                </a:solidFill>
                <a:latin typeface="Blue Highwa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čana i lokalnom upravom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Rectangle 4"/>
          <p:cNvSpPr/>
          <p:nvPr/>
        </p:nvSpPr>
        <p:spPr>
          <a:xfrm flipH="1">
            <a:off x="642240" y="28584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1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26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857160" y="100008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dissolve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7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</a:t>
            </a:r>
            <a:r>
              <a:rPr b="0" lang="en-US" sz="2000" spc="-1" strike="noStrike">
                <a:solidFill>
                  <a:srgbClr val="1f497d"/>
                </a:solidFill>
                <a:latin typeface="Tw Cen MT"/>
              </a:rPr>
              <a:t>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460680" y="1844640"/>
            <a:ext cx="543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Procijenjeni b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džet za realizaciju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projekata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u MZ Bukovica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Za p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tn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infrastruktu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ru       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1.580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Za e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lektrodistributivn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mrež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135.000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Za i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ndividualn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stamben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i pomoćn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objekt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2.760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kupn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a procijenjena vrijednost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4.475.000 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Rectangle 4"/>
          <p:cNvSpPr/>
          <p:nvPr/>
        </p:nvSpPr>
        <p:spPr>
          <a:xfrm flipH="1">
            <a:off x="642240" y="21420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Povratak raseljenih lica i poboljšanje uslova života na teritoriji MZ Bukovic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0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642960" y="135720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3" name="Picture 2" descr="C:\Users\user\Desktop\Bukovica 2011\Bukovica foto 2010\Bukovica, 2009\28.05\P5282118.JPG"/>
          <p:cNvPicPr/>
          <p:nvPr/>
        </p:nvPicPr>
        <p:blipFill>
          <a:blip r:embed="rId2"/>
          <a:stretch/>
        </p:blipFill>
        <p:spPr>
          <a:xfrm>
            <a:off x="395280" y="1571760"/>
            <a:ext cx="3162240" cy="2071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C:\Users\user\Desktop\Bukovica 2011\Bukovica foto 2010\Bukovica, 2009\28.05\P5282123.JPG"/>
          <p:cNvPicPr/>
          <p:nvPr/>
        </p:nvPicPr>
        <p:blipFill>
          <a:blip r:embed="rId3"/>
          <a:stretch/>
        </p:blipFill>
        <p:spPr>
          <a:xfrm>
            <a:off x="395280" y="3786120"/>
            <a:ext cx="316224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6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 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56800" y="1285920"/>
            <a:ext cx="7451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Bukovica je najveća mjesna zajednica u opštini Pljevlj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Mjesni centar u Kovačevićima udaljen od Pljevalja 65 k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Površina 104 km² ili 7,7% pljev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ljske opštin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49 sela i zaseoka svrstanih u 26 naselj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Rectangle 4"/>
          <p:cNvSpPr/>
          <p:nvPr/>
        </p:nvSpPr>
        <p:spPr>
          <a:xfrm flipH="1">
            <a:off x="642240" y="21420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Povratak raseljenih lica i poboljšanje uslova života na teritoriji MZ Bukovic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9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642960" y="135720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2" name="Picture 10" descr="TMP16.JPG"/>
          <p:cNvPicPr/>
          <p:nvPr/>
        </p:nvPicPr>
        <p:blipFill>
          <a:blip r:embed="rId2"/>
          <a:stretch/>
        </p:blipFill>
        <p:spPr>
          <a:xfrm>
            <a:off x="1566720" y="2781360"/>
            <a:ext cx="5651640" cy="3101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4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211280" y="1628640"/>
            <a:ext cx="43578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264600" indent="-2214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Rekonstrukcija putne infrastruktur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31000" indent="-221400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Sanacija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rekonstrukcija putnog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pravca Poljana – Piperi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 dužini od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18,5km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(od čega 9km novog asfalta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Rectangle 4"/>
          <p:cNvSpPr/>
          <p:nvPr/>
        </p:nvSpPr>
        <p:spPr>
          <a:xfrm flipH="1">
            <a:off x="1356480" y="35712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zacija aktivnosti u 2008. godin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64296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0" name="Picture 2" descr="C:\Users\user\Desktop\Bukovica 2011\Bukovica foto 2010\Bukovica 2008\05.09\P9050008.JPG"/>
          <p:cNvPicPr/>
          <p:nvPr/>
        </p:nvPicPr>
        <p:blipFill>
          <a:blip r:embed="rId2"/>
          <a:stretch/>
        </p:blipFill>
        <p:spPr>
          <a:xfrm>
            <a:off x="857160" y="1143000"/>
            <a:ext cx="3214800" cy="2454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C:\Users\user\Desktop\Bukovica 2011\Bukovica foto 2010\Bukovica 2008\05.09\P9050006.JPG"/>
          <p:cNvPicPr/>
          <p:nvPr/>
        </p:nvPicPr>
        <p:blipFill>
          <a:blip r:embed="rId3"/>
          <a:stretch/>
        </p:blipFill>
        <p:spPr>
          <a:xfrm>
            <a:off x="4714920" y="3735360"/>
            <a:ext cx="3286080" cy="2357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C:\Users\user\Desktop\Bukovica 2011\Bukovica foto 2010\Bukovica 2008\16.10\PA160034.JPG"/>
          <p:cNvPicPr/>
          <p:nvPr/>
        </p:nvPicPr>
        <p:blipFill>
          <a:blip r:embed="rId4"/>
          <a:stretch/>
        </p:blipFill>
        <p:spPr>
          <a:xfrm>
            <a:off x="857160" y="3714840"/>
            <a:ext cx="3186360" cy="2388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4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286160" y="2071800"/>
            <a:ext cx="421488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putne infrastruk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Sanacija makadamskog puta Piperi – Kovačevići u dužini od 8,5k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Rectangle 4"/>
          <p:cNvSpPr/>
          <p:nvPr/>
        </p:nvSpPr>
        <p:spPr>
          <a:xfrm flipH="1">
            <a:off x="1356480" y="35712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zacija aktivnosti u 2008. godin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7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64296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0" name="Picture 2" descr="C:\Users\user\Desktop\Bukovica 2011\Bukovica foto 2010\Bukovica 2008\05.09\P9050011.JPG"/>
          <p:cNvPicPr/>
          <p:nvPr/>
        </p:nvPicPr>
        <p:blipFill>
          <a:blip r:embed="rId2"/>
          <a:stretch/>
        </p:blipFill>
        <p:spPr>
          <a:xfrm>
            <a:off x="571680" y="1285920"/>
            <a:ext cx="364320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2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57400" y="1642680"/>
            <a:ext cx="485748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 putne infrastruk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Ukupno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za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putnu infrastrukturu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u 2008. godini uloženo </a:t>
            </a:r>
            <a:r>
              <a:rPr b="1" lang="sr-Latn-ME" sz="2400" spc="-1" strike="noStrike">
                <a:solidFill>
                  <a:srgbClr val="000000"/>
                </a:solidFill>
                <a:latin typeface="Blue Highway"/>
              </a:rPr>
              <a:t>460.000 €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, od čega Vlada Crne Gore preko Direkcije javnih radova 440.000 i opština Pljevlja                 20.000 €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Rectangle 4"/>
          <p:cNvSpPr/>
          <p:nvPr/>
        </p:nvSpPr>
        <p:spPr>
          <a:xfrm flipH="1">
            <a:off x="1356480" y="35712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zacija aktivnosti u 2008. godin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5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64296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8" name="Picture 6" descr="C:\Users\user\Desktop\Bukovica 2011\Bukovica foto 2010\Bukovica 2008\05.09\P9050005.JPG"/>
          <p:cNvPicPr/>
          <p:nvPr/>
        </p:nvPicPr>
        <p:blipFill>
          <a:blip r:embed="rId2"/>
          <a:stretch/>
        </p:blipFill>
        <p:spPr>
          <a:xfrm>
            <a:off x="857160" y="3591000"/>
            <a:ext cx="2857680" cy="2481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C:\Users\user\Desktop\Bukovica 2011\Bukovica foto 2010\Bukovica 2008\05.09\P9050007.JPG"/>
          <p:cNvPicPr/>
          <p:nvPr/>
        </p:nvPicPr>
        <p:blipFill>
          <a:blip r:embed="rId3"/>
          <a:stretch/>
        </p:blipFill>
        <p:spPr>
          <a:xfrm>
            <a:off x="857160" y="1098720"/>
            <a:ext cx="2857680" cy="233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1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571920" y="1642680"/>
            <a:ext cx="474336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 niskonaponske elektro mrež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U saradnji sa Elektroprivredom Crne Gore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otpočeli radovi na sanaciji i rekonstrukciji nisko naponske elektrodistributivne mrež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Vrijednost radova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12.800 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Rectangle 4"/>
          <p:cNvSpPr/>
          <p:nvPr/>
        </p:nvSpPr>
        <p:spPr>
          <a:xfrm flipH="1">
            <a:off x="642240" y="3571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08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4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71424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7" name="Picture 10" descr="PA160019.JPG"/>
          <p:cNvPicPr/>
          <p:nvPr/>
        </p:nvPicPr>
        <p:blipFill>
          <a:blip r:embed="rId2"/>
          <a:stretch/>
        </p:blipFill>
        <p:spPr>
          <a:xfrm>
            <a:off x="571680" y="1285920"/>
            <a:ext cx="2786040" cy="2286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C:\Users\user\Desktop\Bukovica 2011\Bukovica foto 2010\Bukovica 2008\16.10\PA160027.JPG"/>
          <p:cNvPicPr/>
          <p:nvPr/>
        </p:nvPicPr>
        <p:blipFill>
          <a:blip r:embed="rId3"/>
          <a:stretch/>
        </p:blipFill>
        <p:spPr>
          <a:xfrm>
            <a:off x="571680" y="3714840"/>
            <a:ext cx="2761920" cy="2357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0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357440" y="2143080"/>
            <a:ext cx="450036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>
              <a:lnSpc>
                <a:spcPct val="9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 putne infrastruk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Asfaltiranje lokalnog puta Lugovi – Kovačevići u dužini od 4 k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Rectangle 4"/>
          <p:cNvSpPr/>
          <p:nvPr/>
        </p:nvSpPr>
        <p:spPr>
          <a:xfrm flipH="1">
            <a:off x="642240" y="3571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09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3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64296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6" name="Picture 4" descr="C:\Users\user\Desktop\Bukovica 2011\Bukovica foto 2010\Bukovica 2008\16.10\PA160031.JPG"/>
          <p:cNvPicPr/>
          <p:nvPr/>
        </p:nvPicPr>
        <p:blipFill>
          <a:blip r:embed="rId2"/>
          <a:stretch/>
        </p:blipFill>
        <p:spPr>
          <a:xfrm>
            <a:off x="500040" y="1285920"/>
            <a:ext cx="3500640" cy="22143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C:\Users\user\Desktop\Bukovica 2011\Bukovica foto 2010\Bukovica 2008\16.10\PA160035.JPG"/>
          <p:cNvPicPr/>
          <p:nvPr/>
        </p:nvPicPr>
        <p:blipFill>
          <a:blip r:embed="rId3"/>
          <a:stretch/>
        </p:blipFill>
        <p:spPr>
          <a:xfrm>
            <a:off x="500040" y="3714840"/>
            <a:ext cx="3500640" cy="2300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9:03:24Z</dcterms:created>
  <dc:creator>user</dc:creator>
  <dc:description/>
  <dc:language>en-US</dc:language>
  <cp:lastModifiedBy> </cp:lastModifiedBy>
  <dcterms:modified xsi:type="dcterms:W3CDTF">2011-03-21T08:52:34Z</dcterms:modified>
  <cp:revision>174</cp:revision>
  <dc:subject/>
  <dc:title>Vlada Crne Gore          Direkcija javnih radova</dc:title>
</cp:coreProperties>
</file>