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34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2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kj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kcija javnih radova                                              Vlada Crne Gore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F712-45A3-45E8-BC1F-580BC2114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kcija javnih radova                                              Vlada Crne Gore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2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kj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7BF2-DA7F-481D-8A5F-9FBBC0CE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489-E184-4AD9-9AD2-29031048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ECB4-EA32-4024-B0D8-686A56BE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2788-BA7F-4C30-8E91-F815BAE3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DA1A-665A-4232-9184-95B00B7A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DFD9-53A3-4A69-A672-EEFE9251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FB29-4497-4CAD-B593-ED0232D7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DDF2-0881-4D7F-9E03-42A2D084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22E3-44F6-4E84-83EB-F8A31282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E7C9-9125-4D60-BF30-ECD1F42C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50C5-4BA5-4C7F-8FDC-2824903E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3931-5DB3-4FDF-BBA9-1A315368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EA79-AFF1-40C5-A41F-34E1BBB4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DC1D-C92C-4377-90EC-F250F5F4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9DC9-2958-4985-8FE0-CD5D34E0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E10F-78D6-4A91-8188-7D9BD210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47DE-45C6-4E6D-A8D4-7D64CF2F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D8B1D-435E-4BAA-833B-85FF7A81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F4700-0AA2-466E-BA7C-7CD26621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C341D-4986-4CDE-AE39-904D72EF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7CDC0-5C21-4532-B1CE-E2548632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0841D-A700-4FDE-8C4D-5DC1531D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4A2A-1AD5-4734-B003-C270DABA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99A66-E14A-4180-A62C-CE6C4E30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BD4E7-70A9-4BA9-B787-26F037B9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D4017-ECDC-48BD-AE59-ABF0D563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516C8-E63B-4388-A7B9-420F5AED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94AB8-0BD5-4952-B5D6-5F2B46E0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3F0FB-AD6D-4120-A738-03E58F60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5780D-7E5E-4B79-85D2-67D6403D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BA567-6730-4CF7-8B02-F282CAAF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60379-C75C-4BA4-9C91-65967873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A4376-B0CB-42DA-8FCE-9CBCAE1F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F8B-5D2D-474E-9786-47FF36EC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66C46-9E2C-4C78-A6A5-18804FB9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0424A-CDE7-4F29-AA63-58093FE8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F8483-F4B0-4B06-B031-0C623807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ABB8A-C4E7-4760-BC40-4493F379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B6C7C-C7DB-43AA-9931-A974F208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9E119-5D70-4E5D-B1C6-5F5B122E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802A0-71D6-4C3D-BAA3-3A6F1018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CA5B2-00E2-4677-BD7B-0FD0BB4C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62216-697F-45AC-8E8A-004FF577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D47B7-A45B-4C6A-A09B-00EC2D43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3AD0-7430-4048-98AB-EEED74C5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6A32D-2069-4C28-9AEB-523F88DD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FB69E-C177-4836-920B-435DEB14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4910C-54C8-4272-A198-E6354EF2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47F90-C86A-4C51-B9EB-28AEB0F9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8FCE3-87AE-4B0F-AB02-2A19F257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4748E-9A90-4F65-BAEF-123BFE57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A29CF-CDD5-49EB-9FC7-6324DB2B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991D1-3850-4CFD-AB8B-883206BE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FE46A-CAA3-48CE-AA33-070682ED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EB062-707C-44CC-92D9-E5BFB7F1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79E7-F46D-44DB-9980-D9109B0C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8B8DB-98DB-4BCC-93D2-0FB9CBAF9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28E9-7126-4156-BBF2-B67BE2CE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FF93-B37D-468E-8EDD-48F0E369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1480-440A-493A-BC94-BF91E6BF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3/13/2011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598B-C3DA-433C-9950-EEA67D1A5CF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3/13/2011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C5DC-C9E0-4903-92C0-B0E98E626AB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3/13/2011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25EF-F7FE-4596-90DE-DF1D57B0CDE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3/13/2011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7FA1-05C6-4462-AF4C-4E077198D3A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3/13/2011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4E6A-6B1A-473E-AA69-E031399E873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85520" y="704880"/>
            <a:ext cx="7900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w Cen MT"/>
              </a:rPr>
              <a:t>    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VLADA CRNE GORE</a:t>
            </a:r>
            <a:br>
              <a:rPr sz="3200"/>
            </a:b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     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DIREKCIJA JAVNIH RADOVA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6" name="Date Placeholder 20"/>
          <p:cNvSpPr/>
          <p:nvPr/>
        </p:nvSpPr>
        <p:spPr>
          <a:xfrm>
            <a:off x="428760" y="6072120"/>
            <a:ext cx="82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1f497d"/>
                </a:solidFill>
                <a:latin typeface="Perpetua"/>
              </a:rPr>
              <a:t>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8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285840" y="214200"/>
            <a:ext cx="873000" cy="1008000"/>
          </a:xfrm>
          <a:prstGeom prst="rect">
            <a:avLst/>
          </a:prstGeom>
          <a:ln w="0">
            <a:noFill/>
          </a:ln>
        </p:spPr>
      </p:pic>
      <p:pic>
        <p:nvPicPr>
          <p:cNvPr id="239" name="Rectangle 18" descr=""/>
          <p:cNvPicPr/>
          <p:nvPr/>
        </p:nvPicPr>
        <p:blipFill>
          <a:blip r:embed="rId2"/>
          <a:stretch/>
        </p:blipFill>
        <p:spPr>
          <a:xfrm>
            <a:off x="963720" y="2352600"/>
            <a:ext cx="7235640" cy="30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9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850920" y="2491920"/>
            <a:ext cx="500076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9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putne infrastruk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Sanacija alternativnog puta Piperi – Lugovi u dužini od 8,5 k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(djelimično proširenje i nasipanje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Rectangle 4"/>
          <p:cNvSpPr/>
          <p:nvPr/>
        </p:nvSpPr>
        <p:spPr>
          <a:xfrm flipH="1">
            <a:off x="642240" y="3571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09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2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64296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5" name="Picture 13" descr="C:\Users\user\Desktop\Bukovica 2011\Bukovica foto 2010\22.04\P4225781.JPG"/>
          <p:cNvPicPr/>
          <p:nvPr/>
        </p:nvPicPr>
        <p:blipFill>
          <a:blip r:embed="rId2"/>
          <a:stretch/>
        </p:blipFill>
        <p:spPr>
          <a:xfrm>
            <a:off x="500040" y="1000080"/>
            <a:ext cx="3357720" cy="2481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5" descr="C:\Users\user\Desktop\Bukovica 2011\Bukovica foto 2010\22.04\P4225784.JPG"/>
          <p:cNvPicPr/>
          <p:nvPr/>
        </p:nvPicPr>
        <p:blipFill>
          <a:blip r:embed="rId3"/>
          <a:stretch/>
        </p:blipFill>
        <p:spPr>
          <a:xfrm>
            <a:off x="500040" y="3571920"/>
            <a:ext cx="335772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8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50920" y="1699920"/>
            <a:ext cx="5041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9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Rekonstrukcija putne infrastruktur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Nasipanje puteva: Kovačevići – Debelo Brdo – Granica u dužini od 10,5 km, Kovačevići – Planjsko u dužini od 11 km i Kovačevići – Srečanje u dužini od 5 k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Izrada elaborata za sanaciju klizišta na putu Piperi–Lugovi –Kovačevići,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2009. godini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Vlada Crne Gore preko Direkcije javnih radova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za putnu infrastrukturu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ložila </a:t>
            </a:r>
            <a:r>
              <a:rPr b="1" lang="en-US" sz="2000" spc="-1" strike="noStrike">
                <a:solidFill>
                  <a:srgbClr val="000000"/>
                </a:solidFill>
                <a:latin typeface="Blue Highway"/>
              </a:rPr>
              <a:t>490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0" name="Rectangle 4"/>
          <p:cNvSpPr/>
          <p:nvPr/>
        </p:nvSpPr>
        <p:spPr>
          <a:xfrm flipH="1">
            <a:off x="570960" y="285840"/>
            <a:ext cx="75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09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1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64296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4" name="Picture 12" descr="C:\Users\user\Desktop\Bukovica 2011\Bukovica foto 2010\Bukovica, 2009\28.10\PA273460.JPG"/>
          <p:cNvPicPr/>
          <p:nvPr/>
        </p:nvPicPr>
        <p:blipFill>
          <a:blip r:embed="rId2"/>
          <a:stretch/>
        </p:blipFill>
        <p:spPr>
          <a:xfrm>
            <a:off x="714240" y="1214280"/>
            <a:ext cx="3143520" cy="22147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C:\Users\user\Desktop\Bukovica 2011\Bukovica foto 2010\Bukovica, 2009\28.10\PA273459.JPG"/>
          <p:cNvPicPr/>
          <p:nvPr/>
        </p:nvPicPr>
        <p:blipFill>
          <a:blip r:embed="rId3"/>
          <a:stretch/>
        </p:blipFill>
        <p:spPr>
          <a:xfrm>
            <a:off x="714240" y="3571920"/>
            <a:ext cx="3143520" cy="2351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7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929040" y="1000080"/>
            <a:ext cx="45720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Izgradnja individualnih stambenih i pomoćnih objekat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govorena izgradnja montažnih individualnih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stambenih i pomoćnih objekata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za povratak 12 porodic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Počela izgradnja 12 objekat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Rectangle 4"/>
          <p:cNvSpPr/>
          <p:nvPr/>
        </p:nvSpPr>
        <p:spPr>
          <a:xfrm flipH="1">
            <a:off x="1143720" y="28584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zacija aktivnosti u 2009. godin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0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50004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3" name="Picture 2" descr="C:\Users\user\Desktop\Bukovica 2011\Bukovica foto 2010\Bukovica, 2009\03.11\Bukovica 1, 03.11.jpg"/>
          <p:cNvPicPr/>
          <p:nvPr/>
        </p:nvPicPr>
        <p:blipFill>
          <a:blip r:embed="rId2"/>
          <a:stretch/>
        </p:blipFill>
        <p:spPr>
          <a:xfrm>
            <a:off x="571680" y="107172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C:\Users\user\Desktop\Bukovica 2011\Bukovica foto 2010\Bukovica, 2009\03.11\Bukovica 4, 03.11.jpg"/>
          <p:cNvPicPr/>
          <p:nvPr/>
        </p:nvPicPr>
        <p:blipFill>
          <a:blip r:embed="rId3"/>
          <a:stretch/>
        </p:blipFill>
        <p:spPr>
          <a:xfrm>
            <a:off x="571680" y="3571920"/>
            <a:ext cx="3143160" cy="2509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C:\Users\user\Desktop\Bukovica 2011\Bukovica foto 2010\Bukovica, 2009\03.11\PB033690.JPG"/>
          <p:cNvPicPr/>
          <p:nvPr/>
        </p:nvPicPr>
        <p:blipFill>
          <a:blip r:embed="rId4"/>
          <a:stretch/>
        </p:blipFill>
        <p:spPr>
          <a:xfrm>
            <a:off x="4643280" y="3571920"/>
            <a:ext cx="328644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7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 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714480" y="2000160"/>
            <a:ext cx="507204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Izgradnja individualnih stambenih i pomoćnih objekat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U 2009. godini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Vlada Crne Gore preko Direkcije javnih radova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za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izgradnju objekata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uložila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258.000 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Rectangle 4"/>
          <p:cNvSpPr/>
          <p:nvPr/>
        </p:nvSpPr>
        <p:spPr>
          <a:xfrm flipH="1">
            <a:off x="1143720" y="28584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zacija aktivnosti u 2009. godin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0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50004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3" name="Picture 3" descr="C:\Users\user\Desktop\Bukovica 2011\Bukovica foto 2010\Bukovica, 2009\13.11\PB133774.JPG"/>
          <p:cNvPicPr/>
          <p:nvPr/>
        </p:nvPicPr>
        <p:blipFill>
          <a:blip r:embed="rId2"/>
          <a:stretch/>
        </p:blipFill>
        <p:spPr>
          <a:xfrm>
            <a:off x="571680" y="35002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C:\Users\user\Desktop\Bukovica 2011\Bukovica foto 2010\Bukovica, 2009\13.11\PB133779.JPG"/>
          <p:cNvPicPr/>
          <p:nvPr/>
        </p:nvPicPr>
        <p:blipFill>
          <a:blip r:embed="rId3"/>
          <a:stretch/>
        </p:blipFill>
        <p:spPr>
          <a:xfrm>
            <a:off x="571680" y="1071720"/>
            <a:ext cx="2928600" cy="2197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6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142880" y="1857240"/>
            <a:ext cx="47149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 putne infrastruk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Nasipanje lokalnog puta Kovačevići – Planjsko – Moćevići u dužini od 3 km (nastavak radova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Završena izrada projekta sanacije klizišta na putnom pravcu Piperi – Lugovi –  Kovačevići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Rectangle 4"/>
          <p:cNvSpPr/>
          <p:nvPr/>
        </p:nvSpPr>
        <p:spPr>
          <a:xfrm flipH="1">
            <a:off x="785880" y="28584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0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9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642960" y="100008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2" name="Picture 16" descr="C:\Users\user\Desktop\Bukovica 2011\Bukovica foto 2010\22.04\P4225782.JPG"/>
          <p:cNvPicPr/>
          <p:nvPr/>
        </p:nvPicPr>
        <p:blipFill>
          <a:blip r:embed="rId2"/>
          <a:stretch/>
        </p:blipFill>
        <p:spPr>
          <a:xfrm>
            <a:off x="785880" y="3571920"/>
            <a:ext cx="3214800" cy="2286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7" descr="C:\Users\user\Desktop\Bukovica 2011\Bukovica foto 2010\22.04\P4225786.JPG"/>
          <p:cNvPicPr/>
          <p:nvPr/>
        </p:nvPicPr>
        <p:blipFill>
          <a:blip r:embed="rId3"/>
          <a:stretch/>
        </p:blipFill>
        <p:spPr>
          <a:xfrm>
            <a:off x="785880" y="1143000"/>
            <a:ext cx="32148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6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5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071600" y="1714320"/>
            <a:ext cx="471492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248040" indent="-20772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 putne infrastruk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498240" indent="-20772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Probijeno i nasuto 4 km puteva do izgrađenih individualnih stambenih objekat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498240" indent="-20772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U 2010. godini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Vlada Crne Gore preko Direkcije javnih radova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za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putnu infrastrukturu ulo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žila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101.000 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7" name="Rectangle 4"/>
          <p:cNvSpPr/>
          <p:nvPr/>
        </p:nvSpPr>
        <p:spPr>
          <a:xfrm flipH="1">
            <a:off x="713520" y="28584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0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8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642960" y="100008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61" name="Picture 18" descr="C:\Users\user\Desktop\Bukovica 2011\Bukovica foto 2010\21.09\P9177808.JPG"/>
          <p:cNvPicPr/>
          <p:nvPr/>
        </p:nvPicPr>
        <p:blipFill>
          <a:blip r:embed="rId2"/>
          <a:stretch/>
        </p:blipFill>
        <p:spPr>
          <a:xfrm>
            <a:off x="857160" y="3606840"/>
            <a:ext cx="3000600" cy="23223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9" descr="C:\Users\user\Desktop\Bukovica 2011\Bukovica foto 2010\21.07\P7217055.JPG"/>
          <p:cNvPicPr/>
          <p:nvPr/>
        </p:nvPicPr>
        <p:blipFill>
          <a:blip r:embed="rId3"/>
          <a:stretch/>
        </p:blipFill>
        <p:spPr>
          <a:xfrm>
            <a:off x="857160" y="1214280"/>
            <a:ext cx="3024360" cy="2251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64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780000" y="1267920"/>
            <a:ext cx="49291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270000" indent="-226080">
              <a:lnSpc>
                <a:spcPct val="9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Izgradnja individualnih stambenih i pomoćnih objekat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1800" indent="-226080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Nastavljeni i završeni radovi na objektima ugovorenim u 2009. g.Vrijednost izvedenih radova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94.000 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1800" indent="-226080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Ugovorena izgradnja novih montažnih individualnih stambenih i pomoćnih objekata za povratak 20 porodic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1800" indent="-226080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Svi radovi na izgradnji novih objekata završeni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6" name="Rectangle 4"/>
          <p:cNvSpPr/>
          <p:nvPr/>
        </p:nvSpPr>
        <p:spPr>
          <a:xfrm flipH="1">
            <a:off x="928080" y="357120"/>
            <a:ext cx="714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0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67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571680" y="1071720"/>
            <a:ext cx="774036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0" name="Picture 7" descr="P7206977.JPG"/>
          <p:cNvPicPr/>
          <p:nvPr/>
        </p:nvPicPr>
        <p:blipFill>
          <a:blip r:embed="rId2"/>
          <a:stretch/>
        </p:blipFill>
        <p:spPr>
          <a:xfrm>
            <a:off x="1000080" y="1428840"/>
            <a:ext cx="2714760" cy="20714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P7206928.JPG"/>
          <p:cNvPicPr/>
          <p:nvPr/>
        </p:nvPicPr>
        <p:blipFill>
          <a:blip r:embed="rId3"/>
          <a:stretch/>
        </p:blipFill>
        <p:spPr>
          <a:xfrm>
            <a:off x="1000080" y="3714840"/>
            <a:ext cx="271476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3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571920" y="1428840"/>
            <a:ext cx="521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261720" indent="-219240">
              <a:lnSpc>
                <a:spcPct val="8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Izgradnja individualnih stambenih i pomoćnih objekat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25600" indent="-219240">
              <a:lnSpc>
                <a:spcPct val="8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U 2010. godini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Vlada Crne Gore preko Direkcije javnih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adova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za izgradnju objekata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uložila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25600" indent="-2192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000000"/>
                </a:solidFill>
                <a:latin typeface="Blue Highway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659.000 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Rectangle 4"/>
          <p:cNvSpPr/>
          <p:nvPr/>
        </p:nvSpPr>
        <p:spPr>
          <a:xfrm flipH="1">
            <a:off x="642240" y="28584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0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6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8" name="Rectangle 9"/>
          <p:cNvSpPr/>
          <p:nvPr/>
        </p:nvSpPr>
        <p:spPr>
          <a:xfrm>
            <a:off x="714240" y="100008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9" name="Picture 9" descr="Picture20.jpg"/>
          <p:cNvPicPr/>
          <p:nvPr/>
        </p:nvPicPr>
        <p:blipFill>
          <a:blip r:embed="rId2"/>
          <a:stretch/>
        </p:blipFill>
        <p:spPr>
          <a:xfrm>
            <a:off x="928800" y="1143000"/>
            <a:ext cx="2571480" cy="2427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1" descr="P7206952.JPG"/>
          <p:cNvPicPr/>
          <p:nvPr/>
        </p:nvPicPr>
        <p:blipFill>
          <a:blip r:embed="rId3"/>
          <a:stretch/>
        </p:blipFill>
        <p:spPr>
          <a:xfrm>
            <a:off x="928800" y="3727440"/>
            <a:ext cx="2571480" cy="23446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2" descr="PA228144.JPG"/>
          <p:cNvPicPr/>
          <p:nvPr/>
        </p:nvPicPr>
        <p:blipFill>
          <a:blip r:embed="rId4"/>
          <a:stretch/>
        </p:blipFill>
        <p:spPr>
          <a:xfrm>
            <a:off x="4429080" y="3714840"/>
            <a:ext cx="307188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3" name="Date Placeholder 6"/>
          <p:cNvSpPr/>
          <p:nvPr/>
        </p:nvSpPr>
        <p:spPr>
          <a:xfrm>
            <a:off x="500040" y="6215040"/>
            <a:ext cx="7972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   </a:t>
            </a:r>
            <a:r>
              <a:rPr b="0" lang="en-US" sz="2000" spc="-1" strike="noStrike">
                <a:solidFill>
                  <a:srgbClr val="1f497d"/>
                </a:solidFill>
                <a:latin typeface="Blue Highway"/>
              </a:rPr>
              <a:t>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Rectangle 4"/>
          <p:cNvSpPr/>
          <p:nvPr/>
        </p:nvSpPr>
        <p:spPr>
          <a:xfrm flipH="1">
            <a:off x="642240" y="28584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0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85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714240" y="100008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88" name="Picture 8" descr="PA228147.JPG"/>
          <p:cNvPicPr/>
          <p:nvPr/>
        </p:nvPicPr>
        <p:blipFill>
          <a:blip r:embed="rId2"/>
          <a:stretch/>
        </p:blipFill>
        <p:spPr>
          <a:xfrm>
            <a:off x="4572000" y="1143000"/>
            <a:ext cx="3571920" cy="24447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P7026683.JPG"/>
          <p:cNvPicPr/>
          <p:nvPr/>
        </p:nvPicPr>
        <p:blipFill>
          <a:blip r:embed="rId3"/>
          <a:stretch/>
        </p:blipFill>
        <p:spPr>
          <a:xfrm>
            <a:off x="1071720" y="1143000"/>
            <a:ext cx="3214440" cy="24289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P1010145.JPG"/>
          <p:cNvPicPr/>
          <p:nvPr/>
        </p:nvPicPr>
        <p:blipFill>
          <a:blip r:embed="rId4"/>
          <a:stretch/>
        </p:blipFill>
        <p:spPr>
          <a:xfrm>
            <a:off x="1071720" y="3714840"/>
            <a:ext cx="3214440" cy="23572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P7206977.JPG"/>
          <p:cNvPicPr/>
          <p:nvPr/>
        </p:nvPicPr>
        <p:blipFill>
          <a:blip r:embed="rId5"/>
          <a:stretch/>
        </p:blipFill>
        <p:spPr>
          <a:xfrm>
            <a:off x="4572000" y="3714840"/>
            <a:ext cx="3571920" cy="2357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3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51280" y="1856880"/>
            <a:ext cx="49356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 niskonaponske elektro mrež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Nastavljeni i završeni radovi na sanaciji i rekonstrukciji nisko naponske elektrodistributivne mrež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Vrijednost radova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113.000</a:t>
            </a:r>
            <a:r>
              <a:rPr b="1" lang="en-US" sz="2400" spc="-1" strike="noStrike">
                <a:solidFill>
                  <a:srgbClr val="c0504d"/>
                </a:solidFill>
                <a:latin typeface="Blue Highway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Rectangle 4"/>
          <p:cNvSpPr/>
          <p:nvPr/>
        </p:nvSpPr>
        <p:spPr>
          <a:xfrm flipH="1">
            <a:off x="857160" y="35712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0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96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714240" y="107172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99" name="Picture 11" descr="PA160020.JPG"/>
          <p:cNvPicPr/>
          <p:nvPr/>
        </p:nvPicPr>
        <p:blipFill>
          <a:blip r:embed="rId2"/>
          <a:stretch/>
        </p:blipFill>
        <p:spPr>
          <a:xfrm>
            <a:off x="785880" y="3786120"/>
            <a:ext cx="3000240" cy="2144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2" descr="PA160026.JPG"/>
          <p:cNvPicPr/>
          <p:nvPr/>
        </p:nvPicPr>
        <p:blipFill>
          <a:blip r:embed="rId3"/>
          <a:stretch/>
        </p:blipFill>
        <p:spPr>
          <a:xfrm>
            <a:off x="785880" y="1428840"/>
            <a:ext cx="300024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1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28720" y="1447560"/>
            <a:ext cx="748656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Na inicijativu preśednika Crne Gore, gospodina Filipa Vujanovića, početkom 2008. g. formirana radna grupa sa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zadatkom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definisanja modela za povratak raseljenih lica u MZ Bukovica iz perioda ratnih dešavanj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Juna 2008. godine urađen Izvještaj o postojećem stanju sa prijedlogom mjera za obnovu infrastrukture u MZ Bukovic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31. jula 2008. g. Vlada usvojila Izvještaj i donijela odluku o realizaciji infrastrukturnih projekata u MZ Bukovic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Nosioci aktivnosti Vlada Crne Gore, Direkcija javnih radova, opština Pljevlja i Udruženje Bukovičan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Glavni pravci ulaganja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u putnu infrastrukturu, elektro distributivnu mrežu i izgradnju individualnih stambenih i pomoćnih objekat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Rectangle 4"/>
          <p:cNvSpPr/>
          <p:nvPr/>
        </p:nvSpPr>
        <p:spPr>
          <a:xfrm flipH="1">
            <a:off x="642240" y="214200"/>
            <a:ext cx="742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Povratak raseljenih lica i poboljšanje uslova života na MZ Bukovic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9"/>
          <p:cNvSpPr/>
          <p:nvPr/>
        </p:nvSpPr>
        <p:spPr>
          <a:xfrm>
            <a:off x="642960" y="135720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02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571320" y="857160"/>
            <a:ext cx="80722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2008. godini uloženo : u putnu infrastrukturu                 460.000 €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        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elektrodistributivnu mrežu          12.8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                       </a:t>
            </a:r>
            <a:r>
              <a:rPr b="0" lang="sr-Latn-ME" sz="2000" spc="-1" strike="noStrike">
                <a:solidFill>
                  <a:srgbClr val="ff0000"/>
                </a:solidFill>
                <a:latin typeface="Blue Highway"/>
              </a:rPr>
              <a:t>Ukupno                    472.8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2009. godini uloženo : u putnu infrastrukturu                 490.000 €,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         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izgradnju objekata                   258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                       </a:t>
            </a:r>
            <a:r>
              <a:rPr b="0" lang="sr-Latn-ME" sz="2000" spc="-1" strike="noStrike">
                <a:solidFill>
                  <a:srgbClr val="ff0000"/>
                </a:solidFill>
                <a:latin typeface="Blue Highway"/>
              </a:rPr>
              <a:t>Ukupno                    748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2010. godini uloženo : u putnu infrastrukturu                 101.000 €,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         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izgradnju objekata                  659.000 €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         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elektrodistributivnu mrežu      113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0000"/>
                </a:solidFill>
                <a:latin typeface="Blue Highway"/>
              </a:rPr>
              <a:t>                                                       </a:t>
            </a:r>
            <a:r>
              <a:rPr b="0" lang="sr-Latn-ME" sz="2000" spc="-1" strike="noStrike">
                <a:solidFill>
                  <a:srgbClr val="ff0000"/>
                </a:solidFill>
                <a:latin typeface="Blue Highway"/>
              </a:rPr>
              <a:t>Ukupno                    873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0000"/>
                </a:solidFill>
                <a:latin typeface="Blue Highway"/>
              </a:rPr>
              <a:t>UKUPNO ULOŽENO</a:t>
            </a:r>
            <a:r>
              <a:rPr b="1" lang="sr-Latn-ME" sz="2800" spc="-1" strike="noStrike">
                <a:solidFill>
                  <a:srgbClr val="ff0000"/>
                </a:solidFill>
                <a:latin typeface="Blue Highway"/>
              </a:rPr>
              <a:t>                             </a:t>
            </a:r>
            <a:r>
              <a:rPr b="1" lang="sr-Latn-ME" sz="3000" spc="-1" strike="noStrike">
                <a:solidFill>
                  <a:srgbClr val="ff0000"/>
                </a:solidFill>
                <a:latin typeface="Blue Highway"/>
              </a:rPr>
              <a:t>  2.093.800 €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Rectangle 4"/>
          <p:cNvSpPr/>
          <p:nvPr/>
        </p:nvSpPr>
        <p:spPr>
          <a:xfrm flipH="1">
            <a:off x="1028160" y="0"/>
            <a:ext cx="714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Finansijsk</a:t>
            </a: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a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 konstrukcija do sada urađenog- pregled po godinam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05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714240" y="1000080"/>
            <a:ext cx="7669440" cy="4608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wipe dir="l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09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0920" y="2205000"/>
            <a:ext cx="8072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264600" indent="-2214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64600" indent="-2214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kupno uloženo u putnu infrastrukturu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1.051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.000 €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4600" indent="-2214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kupno ulo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ženo u izgradnju objekata                             917.000 €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4600" indent="-2214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kupno uloženo u elektrodistributivnu mrežu                  125.800 €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64600" indent="-2214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64600" indent="-2214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ff0000"/>
                </a:solidFill>
                <a:latin typeface="Blue Highway"/>
              </a:rPr>
              <a:t>UKUPNO ULOŽENO                  </a:t>
            </a:r>
            <a:r>
              <a:rPr b="1" lang="sr-Latn-ME" sz="3000" spc="-1" strike="noStrike">
                <a:solidFill>
                  <a:srgbClr val="ff0000"/>
                </a:solidFill>
                <a:latin typeface="Blue Highway"/>
              </a:rPr>
              <a:t>  2.093.000 €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1" name="Rectangle 4"/>
          <p:cNvSpPr/>
          <p:nvPr/>
        </p:nvSpPr>
        <p:spPr>
          <a:xfrm flipH="1">
            <a:off x="971640" y="0"/>
            <a:ext cx="714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Finansijsk</a:t>
            </a: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a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 konstrukcija do sada urađenog- pregled po projektim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12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714240" y="1000080"/>
            <a:ext cx="7669440" cy="4608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wipe dir="l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6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28720" y="1485720"/>
            <a:ext cx="748656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Sanirano 18,5 km postojećeg asfaltnog puta i asfaltirano 4 km novog puta, sanirano i nasuto 50 km makadamskih lokalanih putev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Izrađena projektna dokumentacija za sanaciju klizišta na putnom pravcu Piperi – Lugovi – Kovačevići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Izgra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đeno ukupno 3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3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individualna stambena objekta, 26 pomoćnih objekata i jedan stambeni objekat je rekonstruisa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Sanirano i rekonstruisano 12 km nisko naponske elektrodistributivne mrež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8" name="Rectangle 4"/>
          <p:cNvSpPr/>
          <p:nvPr/>
        </p:nvSpPr>
        <p:spPr>
          <a:xfrm flipH="1">
            <a:off x="713520" y="35712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Pregled do sada urađenog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19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571680" y="1071720"/>
            <a:ext cx="774036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wedge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23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28720" y="1928520"/>
            <a:ext cx="748656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Predlogom Budžeta Crne Gore za 2011. g. predviđena je realiacija infrastrukturnih projekata u MZ Bukovica u vrijednosti od </a:t>
            </a:r>
            <a:r>
              <a:rPr b="1" lang="en-US" sz="2800" spc="-1" strike="noStrike">
                <a:solidFill>
                  <a:srgbClr val="000000"/>
                </a:solidFill>
                <a:latin typeface="Blue Highway"/>
              </a:rPr>
              <a:t>525.000 €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Nastavak aktivnosti će se sprovoditi u punoj saradnji sa Udruženjem Bukov</a:t>
            </a:r>
            <a:r>
              <a:rPr b="0" lang="sr-Latn-ME" sz="2800" spc="-1" strike="noStrike">
                <a:solidFill>
                  <a:srgbClr val="000000"/>
                </a:solidFill>
                <a:latin typeface="Blue Highwa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čana i lokalnom upravom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Rectangle 4"/>
          <p:cNvSpPr/>
          <p:nvPr/>
        </p:nvSpPr>
        <p:spPr>
          <a:xfrm flipH="1">
            <a:off x="642240" y="28584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1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26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857160" y="100008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dissolve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7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</a:t>
            </a:r>
            <a:r>
              <a:rPr b="0" lang="en-US" sz="2000" spc="-1" strike="noStrike">
                <a:solidFill>
                  <a:srgbClr val="1f497d"/>
                </a:solidFill>
                <a:latin typeface="Tw Cen MT"/>
              </a:rPr>
              <a:t>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460680" y="1844640"/>
            <a:ext cx="543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Procijenjeni b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džet za realizaciju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projekata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u MZ Bukovica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Za p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tn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infrastruktu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ru       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1.580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Za e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lektrodistributivn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mrež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135.000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Za i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ndividualn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stamben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i pomoćn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objekt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2.760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kupn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a procijenjena vrijednost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4.475.000 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Rectangle 4"/>
          <p:cNvSpPr/>
          <p:nvPr/>
        </p:nvSpPr>
        <p:spPr>
          <a:xfrm flipH="1">
            <a:off x="642240" y="21420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Povratak raseljenih lica i poboljšanje uslova života na teritoriji MZ Bukovic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0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642960" y="135720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3" name="Picture 2" descr="C:\Users\user\Desktop\Bukovica 2011\Bukovica foto 2010\Bukovica, 2009\28.05\P5282118.JPG"/>
          <p:cNvPicPr/>
          <p:nvPr/>
        </p:nvPicPr>
        <p:blipFill>
          <a:blip r:embed="rId2"/>
          <a:stretch/>
        </p:blipFill>
        <p:spPr>
          <a:xfrm>
            <a:off x="395280" y="1571760"/>
            <a:ext cx="3162240" cy="2071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C:\Users\user\Desktop\Bukovica 2011\Bukovica foto 2010\Bukovica, 2009\28.05\P5282123.JPG"/>
          <p:cNvPicPr/>
          <p:nvPr/>
        </p:nvPicPr>
        <p:blipFill>
          <a:blip r:embed="rId3"/>
          <a:stretch/>
        </p:blipFill>
        <p:spPr>
          <a:xfrm>
            <a:off x="395280" y="3786120"/>
            <a:ext cx="316224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6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 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56800" y="1285920"/>
            <a:ext cx="7451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Bukovica je najveća mjesna zajednica u opštini Pljevlj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Mjesni centar u Kovačevićima udaljen od Pljevalja 65 k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Površina 104 km² ili 7,7% pljev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ljske opštin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49 sela i zaseoka svrstanih u 26 naselj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Rectangle 4"/>
          <p:cNvSpPr/>
          <p:nvPr/>
        </p:nvSpPr>
        <p:spPr>
          <a:xfrm flipH="1">
            <a:off x="642240" y="21420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Povratak raseljenih lica i poboljšanje uslova života na teritoriji MZ Bukovic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9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642960" y="135720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2" name="Picture 10" descr="TMP16.JPG"/>
          <p:cNvPicPr/>
          <p:nvPr/>
        </p:nvPicPr>
        <p:blipFill>
          <a:blip r:embed="rId2"/>
          <a:stretch/>
        </p:blipFill>
        <p:spPr>
          <a:xfrm>
            <a:off x="1566720" y="2781360"/>
            <a:ext cx="5651640" cy="3101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4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211280" y="1628640"/>
            <a:ext cx="43578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264600" indent="-2214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Rekonstrukcija putne infrastruktur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31000" indent="-221400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Sanacija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rekonstrukcija putnog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pravca Poljana – Piperi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 dužini od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18,5km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(od čega 9km novog asfalta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Rectangle 4"/>
          <p:cNvSpPr/>
          <p:nvPr/>
        </p:nvSpPr>
        <p:spPr>
          <a:xfrm flipH="1">
            <a:off x="1356480" y="35712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zacija aktivnosti u 2008. godin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64296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0" name="Picture 2" descr="C:\Users\user\Desktop\Bukovica 2011\Bukovica foto 2010\Bukovica 2008\05.09\P9050008.JPG"/>
          <p:cNvPicPr/>
          <p:nvPr/>
        </p:nvPicPr>
        <p:blipFill>
          <a:blip r:embed="rId2"/>
          <a:stretch/>
        </p:blipFill>
        <p:spPr>
          <a:xfrm>
            <a:off x="857160" y="1143000"/>
            <a:ext cx="3214800" cy="2454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C:\Users\user\Desktop\Bukovica 2011\Bukovica foto 2010\Bukovica 2008\05.09\P9050006.JPG"/>
          <p:cNvPicPr/>
          <p:nvPr/>
        </p:nvPicPr>
        <p:blipFill>
          <a:blip r:embed="rId3"/>
          <a:stretch/>
        </p:blipFill>
        <p:spPr>
          <a:xfrm>
            <a:off x="4714920" y="3735360"/>
            <a:ext cx="3286080" cy="2357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C:\Users\user\Desktop\Bukovica 2011\Bukovica foto 2010\Bukovica 2008\16.10\PA160034.JPG"/>
          <p:cNvPicPr/>
          <p:nvPr/>
        </p:nvPicPr>
        <p:blipFill>
          <a:blip r:embed="rId4"/>
          <a:stretch/>
        </p:blipFill>
        <p:spPr>
          <a:xfrm>
            <a:off x="857160" y="3714840"/>
            <a:ext cx="3186360" cy="2388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4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286160" y="2071800"/>
            <a:ext cx="421488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putne infrastruk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Sanacija makadamskog puta Piperi – Kovačevići u dužini od 8,5k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Rectangle 4"/>
          <p:cNvSpPr/>
          <p:nvPr/>
        </p:nvSpPr>
        <p:spPr>
          <a:xfrm flipH="1">
            <a:off x="1356480" y="35712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zacija aktivnosti u 2008. godin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7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64296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0" name="Picture 2" descr="C:\Users\user\Desktop\Bukovica 2011\Bukovica foto 2010\Bukovica 2008\05.09\P9050011.JPG"/>
          <p:cNvPicPr/>
          <p:nvPr/>
        </p:nvPicPr>
        <p:blipFill>
          <a:blip r:embed="rId2"/>
          <a:stretch/>
        </p:blipFill>
        <p:spPr>
          <a:xfrm>
            <a:off x="571680" y="1285920"/>
            <a:ext cx="364320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2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57400" y="1642680"/>
            <a:ext cx="485748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 putne infrastruk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Ukupno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za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putnu infrastrukturu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u 2008. godini uloženo </a:t>
            </a:r>
            <a:r>
              <a:rPr b="1" lang="sr-Latn-ME" sz="2400" spc="-1" strike="noStrike">
                <a:solidFill>
                  <a:srgbClr val="000000"/>
                </a:solidFill>
                <a:latin typeface="Blue Highway"/>
              </a:rPr>
              <a:t>460.000 €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, od čega Vlada Crne Gore preko Direkcije javnih radova 440.000 i opština Pljevlja                 20.000 €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Rectangle 4"/>
          <p:cNvSpPr/>
          <p:nvPr/>
        </p:nvSpPr>
        <p:spPr>
          <a:xfrm flipH="1">
            <a:off x="1356480" y="35712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zacija aktivnosti u 2008. godin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5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64296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8" name="Picture 6" descr="C:\Users\user\Desktop\Bukovica 2011\Bukovica foto 2010\Bukovica 2008\05.09\P9050005.JPG"/>
          <p:cNvPicPr/>
          <p:nvPr/>
        </p:nvPicPr>
        <p:blipFill>
          <a:blip r:embed="rId2"/>
          <a:stretch/>
        </p:blipFill>
        <p:spPr>
          <a:xfrm>
            <a:off x="857160" y="3591000"/>
            <a:ext cx="2857680" cy="2481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C:\Users\user\Desktop\Bukovica 2011\Bukovica foto 2010\Bukovica 2008\05.09\P9050007.JPG"/>
          <p:cNvPicPr/>
          <p:nvPr/>
        </p:nvPicPr>
        <p:blipFill>
          <a:blip r:embed="rId3"/>
          <a:stretch/>
        </p:blipFill>
        <p:spPr>
          <a:xfrm>
            <a:off x="857160" y="1098720"/>
            <a:ext cx="2857680" cy="233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1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571920" y="1642680"/>
            <a:ext cx="474336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 niskonaponske elektro mrež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U saradnji sa Elektroprivredom Crne Gore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otpočeli radovi na sanaciji i rekonstrukciji nisko naponske elektrodistributivne mrež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Vrijednost radova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12.800 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Rectangle 4"/>
          <p:cNvSpPr/>
          <p:nvPr/>
        </p:nvSpPr>
        <p:spPr>
          <a:xfrm flipH="1">
            <a:off x="642240" y="3571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08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4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71424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7" name="Picture 10" descr="PA160019.JPG"/>
          <p:cNvPicPr/>
          <p:nvPr/>
        </p:nvPicPr>
        <p:blipFill>
          <a:blip r:embed="rId2"/>
          <a:stretch/>
        </p:blipFill>
        <p:spPr>
          <a:xfrm>
            <a:off x="571680" y="1285920"/>
            <a:ext cx="2786040" cy="2286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C:\Users\user\Desktop\Bukovica 2011\Bukovica foto 2010\Bukovica 2008\16.10\PA160027.JPG"/>
          <p:cNvPicPr/>
          <p:nvPr/>
        </p:nvPicPr>
        <p:blipFill>
          <a:blip r:embed="rId3"/>
          <a:stretch/>
        </p:blipFill>
        <p:spPr>
          <a:xfrm>
            <a:off x="571680" y="3714840"/>
            <a:ext cx="2761920" cy="2357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0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357440" y="2143080"/>
            <a:ext cx="450036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>
              <a:lnSpc>
                <a:spcPct val="9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 putne infrastruk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Asfaltiranje lokalnog puta Lugovi – Kovačevići u dužini od 4 k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Rectangle 4"/>
          <p:cNvSpPr/>
          <p:nvPr/>
        </p:nvSpPr>
        <p:spPr>
          <a:xfrm flipH="1">
            <a:off x="642240" y="3571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09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3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64296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6" name="Picture 4" descr="C:\Users\user\Desktop\Bukovica 2011\Bukovica foto 2010\Bukovica 2008\16.10\PA160031.JPG"/>
          <p:cNvPicPr/>
          <p:nvPr/>
        </p:nvPicPr>
        <p:blipFill>
          <a:blip r:embed="rId2"/>
          <a:stretch/>
        </p:blipFill>
        <p:spPr>
          <a:xfrm>
            <a:off x="500040" y="1285920"/>
            <a:ext cx="3500640" cy="22143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C:\Users\user\Desktop\Bukovica 2011\Bukovica foto 2010\Bukovica 2008\16.10\PA160035.JPG"/>
          <p:cNvPicPr/>
          <p:nvPr/>
        </p:nvPicPr>
        <p:blipFill>
          <a:blip r:embed="rId3"/>
          <a:stretch/>
        </p:blipFill>
        <p:spPr>
          <a:xfrm>
            <a:off x="500040" y="3714840"/>
            <a:ext cx="3500640" cy="2300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9:03:24Z</dcterms:created>
  <dc:creator>user</dc:creator>
  <dc:description/>
  <dc:language>en-US</dc:language>
  <cp:lastModifiedBy> </cp:lastModifiedBy>
  <dcterms:modified xsi:type="dcterms:W3CDTF">2011-03-21T08:52:34Z</dcterms:modified>
  <cp:revision>174</cp:revision>
  <dc:subject/>
  <dc:title>Vlada Crne Gore          Direkcija javnih radova</dc:title>
</cp:coreProperties>
</file>